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.png" ContentType="image/png"/>
  <Override PartName="/ppt/media/image4.png" ContentType="image/png"/>
  <Override PartName="/ppt/media/image10.png" ContentType="image/png"/>
  <Override PartName="/ppt/media/image14.wmf" ContentType="image/x-wmf"/>
  <Override PartName="/ppt/media/image6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ABE7-10C8-4E1F-943C-0AF8E47AB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F21B-9F84-4E83-81A5-B713DA1BE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572C-E098-4E07-BF71-8BFE23AF9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03F0-5784-4839-8B9F-002A57302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F97B-408D-4562-9176-95E25FB6D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D242-6CA5-4821-ADAC-FFE4A55BD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0B0F-5A8C-47C2-BFD7-D3EE62081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A7B5-428C-4B1B-B9BE-70486E60A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3D820-E327-4D21-9487-1D3703142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916F-C744-4ECB-A9C3-B0092234B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E0AA-BA9A-47B3-9DAB-1A3CE335C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CBF2-D74B-454C-A201-A7E23D6AE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F10F4-3F45-42C4-B3C7-A3FD376256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14.wmf"/><Relationship Id="rId9" Type="http://schemas.openxmlformats.org/officeDocument/2006/relationships/image" Target="../media/image15.png"/><Relationship Id="rId10" Type="http://schemas.openxmlformats.org/officeDocument/2006/relationships/image" Target="../media/image12.png"/><Relationship Id="rId11" Type="http://schemas.openxmlformats.org/officeDocument/2006/relationships/image" Target="../media/image15.png"/><Relationship Id="rId12" Type="http://schemas.openxmlformats.org/officeDocument/2006/relationships/image" Target="../media/image10.png"/><Relationship Id="rId1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C:\WINDOWS\rundll32.exe amovie.ocx,RunDll /play /close c:\home\kz\sun.mpg" TargetMode="External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143000" y="2590920"/>
            <a:ext cx="708660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1e1e79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Nowoczesne Architektury Oprogramowania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3333cc"/>
                  </a:gs>
                  <a:gs pos="100000">
                    <a:srgbClr val="1e1e79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3333cc"/>
                    </a:gs>
                    <a:gs pos="100000">
                      <a:srgbClr val="1e1e79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Rozproszonych Systemów Komputerowych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3333cc"/>
                  </a:gs>
                  <a:gs pos="100000">
                    <a:srgbClr val="1e1e79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3581280" y="4648320"/>
            <a:ext cx="20574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Krzysztof Zieliński</a:t>
            </a:r>
            <a:endParaRPr b="0" lang="en-US" sz="1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Katedra Informatyki</a:t>
            </a:r>
            <a:endParaRPr b="0" lang="en-US" sz="1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3333cc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Akademia Górniczo-Hutnicza</a:t>
            </a:r>
            <a:endParaRPr b="0" lang="en-US" sz="1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3333cc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685800" y="45720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roblemy otwa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1447920" y="2438280"/>
            <a:ext cx="380880" cy="3812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133720" y="2438280"/>
            <a:ext cx="576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66"/>
                </a:solidFill>
                <a:latin typeface="Arial"/>
              </a:rPr>
              <a:t>Skalowalność</a:t>
            </a:r>
            <a:r>
              <a:rPr b="1" lang="pl-PL" sz="2400" spc="-1" strike="noStrike">
                <a:solidFill>
                  <a:srgbClr val="0000ff"/>
                </a:solidFill>
                <a:latin typeface="Arial"/>
              </a:rPr>
              <a:t> obiektowych rozproszo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ff"/>
                </a:solidFill>
                <a:latin typeface="Arial"/>
              </a:rPr>
              <a:t>nych środowisk tworzenia aplikacji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447920" y="5105520"/>
            <a:ext cx="380880" cy="38088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447920" y="3429000"/>
            <a:ext cx="380880" cy="38088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209680" y="4191120"/>
            <a:ext cx="693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Powiązanie stanów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obiektów sieciowyc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z ich reprezentacją w bazie dany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133720" y="3352680"/>
            <a:ext cx="563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66"/>
                </a:solidFill>
                <a:latin typeface="Arial"/>
              </a:rPr>
              <a:t>Trwałość</a:t>
            </a:r>
            <a:r>
              <a:rPr b="1" lang="pl-PL" sz="2400" spc="-1" strike="noStrike">
                <a:solidFill>
                  <a:srgbClr val="0000ff"/>
                </a:solidFill>
                <a:latin typeface="Arial"/>
              </a:rPr>
              <a:t> obiektów  sieciowych - Persysteność - Czas ży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447920" y="4267080"/>
            <a:ext cx="380880" cy="38124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131920" y="5105520"/>
            <a:ext cx="480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Mobilność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obiektów sieciowy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roblemy otwa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1902600" y="2438280"/>
            <a:ext cx="602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0066"/>
                </a:solidFill>
                <a:latin typeface="Arial"/>
              </a:rPr>
              <a:t>Tolerancja uszkodzeń</a:t>
            </a:r>
            <a:r>
              <a:rPr b="1" lang="pl-PL" sz="2400" spc="-1" strike="noStrike">
                <a:solidFill>
                  <a:srgbClr val="0000ff"/>
                </a:solidFill>
                <a:latin typeface="Arial"/>
              </a:rPr>
              <a:t> w sieci obiektów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ff"/>
                </a:solidFill>
                <a:latin typeface="Arial"/>
              </a:rPr>
              <a:t>resynchronizacja stan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219320" y="2514600"/>
            <a:ext cx="380880" cy="38088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219320" y="4876920"/>
            <a:ext cx="380880" cy="38088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983240" y="4876920"/>
            <a:ext cx="302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Notyfikacja zdarze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981080" y="3657600"/>
            <a:ext cx="5534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rzekazywanie  obiektów sieciowy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rzez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wartoś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295280" y="3657600"/>
            <a:ext cx="381240" cy="38088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1752480" y="2895480"/>
            <a:ext cx="152640" cy="38124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486400" y="2819520"/>
            <a:ext cx="152280" cy="38088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629400" y="2895480"/>
            <a:ext cx="152280" cy="38124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772400" y="2895480"/>
            <a:ext cx="152280" cy="38124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419720" y="3962520"/>
            <a:ext cx="304560" cy="45720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124080" y="1752480"/>
            <a:ext cx="914400" cy="914400"/>
          </a:xfrm>
          <a:prstGeom prst="irregularSeal1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ystemy rozpowszechnia informacj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1828080" y="5562720"/>
            <a:ext cx="543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Wzorzec Obserwator /Obserwow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38080" y="3200400"/>
            <a:ext cx="7696440" cy="76212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50000">
                <a:srgbClr val="cc99ff"/>
              </a:gs>
              <a:gs pos="100000">
                <a:srgbClr val="006699"/>
              </a:gs>
            </a:gsLst>
            <a:lin ang="5400000"/>
          </a:gradFill>
          <a:ln w="3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371600" y="2438280"/>
            <a:ext cx="914400" cy="4572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cc00"/>
                </a:solidFill>
                <a:latin typeface="Arial"/>
              </a:rPr>
              <a:t>Obser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cc00"/>
                </a:solidFill>
                <a:latin typeface="Arial"/>
              </a:rPr>
              <a:t>w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038480" y="4343400"/>
            <a:ext cx="1067040" cy="83808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391520" y="2438280"/>
            <a:ext cx="914400" cy="4572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cc00"/>
                </a:solidFill>
                <a:latin typeface="Arial"/>
              </a:rPr>
              <a:t>Obser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cc00"/>
                </a:solidFill>
                <a:latin typeface="Arial"/>
              </a:rPr>
              <a:t>w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248520" y="2438280"/>
            <a:ext cx="914400" cy="4572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cc00"/>
                </a:solidFill>
                <a:latin typeface="Arial"/>
              </a:rPr>
              <a:t>Obser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cc00"/>
                </a:solidFill>
                <a:latin typeface="Arial"/>
              </a:rPr>
              <a:t>w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105520" y="2438280"/>
            <a:ext cx="914400" cy="4572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cc00"/>
                </a:solidFill>
                <a:latin typeface="Arial"/>
              </a:rPr>
              <a:t>Obser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cc00"/>
                </a:solidFill>
                <a:latin typeface="Arial"/>
              </a:rPr>
              <a:t>w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048120" y="259092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352680" y="25909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657600" y="259092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202200" y="205740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etk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792400" y="4495680"/>
            <a:ext cx="2797560" cy="642600"/>
          </a:xfrm>
          <a:prstGeom prst="rect">
            <a:avLst/>
          </a:prstGeom>
          <a:solidFill>
            <a:srgbClr val="99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ystemy Monitorowan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ktywne Bazy Dany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195640" y="4075200"/>
            <a:ext cx="124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Zdarzeni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9" name=""/>
          <p:cNvCxnSpPr>
            <a:stCxn id="268" idx="2"/>
            <a:endCxn id="269" idx="0"/>
          </p:cNvCxnSpPr>
          <p:nvPr/>
        </p:nvCxnSpPr>
        <p:spPr>
          <a:xfrm flipH="1" rot="16200000">
            <a:off x="2476440" y="2247480"/>
            <a:ext cx="1448640" cy="2743920"/>
          </a:xfrm>
          <a:prstGeom prst="bentConnector3">
            <a:avLst>
              <a:gd name="adj1" fmla="val 49987"/>
            </a:avLst>
          </a:prstGeom>
          <a:ln w="38160">
            <a:solidFill>
              <a:srgbClr val="ffff00"/>
            </a:solidFill>
            <a:prstDash val="sysDot"/>
            <a:miter/>
          </a:ln>
        </p:spPr>
      </p:cxnSp>
      <p:cxnSp>
        <p:nvCxnSpPr>
          <p:cNvPr id="280" name=""/>
          <p:cNvCxnSpPr>
            <a:stCxn id="272" idx="2"/>
            <a:endCxn id="269" idx="0"/>
          </p:cNvCxnSpPr>
          <p:nvPr/>
        </p:nvCxnSpPr>
        <p:spPr>
          <a:xfrm rot="5400000">
            <a:off x="4342680" y="3124080"/>
            <a:ext cx="1448640" cy="991440"/>
          </a:xfrm>
          <a:prstGeom prst="bentConnector3">
            <a:avLst>
              <a:gd name="adj1" fmla="val 49987"/>
            </a:avLst>
          </a:prstGeom>
          <a:ln w="38160">
            <a:solidFill>
              <a:srgbClr val="ffff00"/>
            </a:solidFill>
            <a:prstDash val="sysDot"/>
            <a:miter/>
          </a:ln>
        </p:spPr>
      </p:cxnSp>
      <p:cxnSp>
        <p:nvCxnSpPr>
          <p:cNvPr id="281" name=""/>
          <p:cNvCxnSpPr>
            <a:stCxn id="271" idx="2"/>
            <a:endCxn id="269" idx="0"/>
          </p:cNvCxnSpPr>
          <p:nvPr/>
        </p:nvCxnSpPr>
        <p:spPr>
          <a:xfrm rot="5400000">
            <a:off x="4914000" y="2552400"/>
            <a:ext cx="1448640" cy="2134440"/>
          </a:xfrm>
          <a:prstGeom prst="bentConnector3">
            <a:avLst>
              <a:gd name="adj1" fmla="val 49987"/>
            </a:avLst>
          </a:prstGeom>
          <a:ln w="38160">
            <a:solidFill>
              <a:srgbClr val="ffff00"/>
            </a:solidFill>
            <a:prstDash val="sysDot"/>
            <a:miter/>
          </a:ln>
        </p:spPr>
      </p:cxnSp>
      <p:cxnSp>
        <p:nvCxnSpPr>
          <p:cNvPr id="282" name=""/>
          <p:cNvCxnSpPr>
            <a:stCxn id="270" idx="2"/>
            <a:endCxn id="269" idx="0"/>
          </p:cNvCxnSpPr>
          <p:nvPr/>
        </p:nvCxnSpPr>
        <p:spPr>
          <a:xfrm rot="5400000">
            <a:off x="5485680" y="1981080"/>
            <a:ext cx="1448640" cy="3277440"/>
          </a:xfrm>
          <a:prstGeom prst="bentConnector3">
            <a:avLst>
              <a:gd name="adj1" fmla="val 49987"/>
            </a:avLst>
          </a:prstGeom>
          <a:ln w="38160">
            <a:solidFill>
              <a:srgbClr val="ffff00"/>
            </a:solidFill>
            <a:prstDash val="sysDot"/>
            <a:miter/>
          </a:ln>
        </p:spPr>
      </p:cxnSp>
      <p:cxnSp>
        <p:nvCxnSpPr>
          <p:cNvPr id="283" name=""/>
          <p:cNvCxnSpPr>
            <a:stCxn id="269" idx="0"/>
            <a:endCxn id="268" idx="2"/>
          </p:cNvCxnSpPr>
          <p:nvPr/>
        </p:nvCxnSpPr>
        <p:spPr>
          <a:xfrm flipV="1" rot="16200000">
            <a:off x="2476080" y="2247120"/>
            <a:ext cx="1448640" cy="2743920"/>
          </a:xfrm>
          <a:prstGeom prst="bentConnector3">
            <a:avLst>
              <a:gd name="adj1" fmla="val 49987"/>
            </a:avLst>
          </a:prstGeom>
          <a:ln w="76320">
            <a:solidFill>
              <a:srgbClr val="ff0066"/>
            </a:solidFill>
            <a:miter/>
          </a:ln>
        </p:spPr>
      </p:cxnSp>
      <p:cxnSp>
        <p:nvCxnSpPr>
          <p:cNvPr id="284" name=""/>
          <p:cNvCxnSpPr>
            <a:stCxn id="269" idx="0"/>
            <a:endCxn id="272" idx="2"/>
          </p:cNvCxnSpPr>
          <p:nvPr/>
        </p:nvCxnSpPr>
        <p:spPr>
          <a:xfrm flipH="1" flipV="1" rot="5400000">
            <a:off x="4343040" y="3123720"/>
            <a:ext cx="1448640" cy="991440"/>
          </a:xfrm>
          <a:prstGeom prst="bentConnector3">
            <a:avLst>
              <a:gd name="adj1" fmla="val 49987"/>
            </a:avLst>
          </a:prstGeom>
          <a:ln w="76320">
            <a:solidFill>
              <a:srgbClr val="ff0066"/>
            </a:solidFill>
            <a:miter/>
          </a:ln>
        </p:spPr>
      </p:cxnSp>
      <p:cxnSp>
        <p:nvCxnSpPr>
          <p:cNvPr id="285" name=""/>
          <p:cNvCxnSpPr>
            <a:stCxn id="269" idx="0"/>
            <a:endCxn id="271" idx="2"/>
          </p:cNvCxnSpPr>
          <p:nvPr/>
        </p:nvCxnSpPr>
        <p:spPr>
          <a:xfrm flipH="1" flipV="1" rot="5400000">
            <a:off x="4914360" y="2552040"/>
            <a:ext cx="1448640" cy="2134440"/>
          </a:xfrm>
          <a:prstGeom prst="bentConnector3">
            <a:avLst>
              <a:gd name="adj1" fmla="val 49987"/>
            </a:avLst>
          </a:prstGeom>
          <a:ln w="76320">
            <a:solidFill>
              <a:srgbClr val="ff0066"/>
            </a:solidFill>
            <a:miter/>
          </a:ln>
        </p:spPr>
      </p:cxnSp>
      <p:cxnSp>
        <p:nvCxnSpPr>
          <p:cNvPr id="286" name=""/>
          <p:cNvCxnSpPr>
            <a:stCxn id="269" idx="0"/>
            <a:endCxn id="270" idx="2"/>
          </p:cNvCxnSpPr>
          <p:nvPr/>
        </p:nvCxnSpPr>
        <p:spPr>
          <a:xfrm flipH="1" flipV="1" rot="5400000">
            <a:off x="5486040" y="1980720"/>
            <a:ext cx="1448640" cy="3277440"/>
          </a:xfrm>
          <a:prstGeom prst="bentConnector3">
            <a:avLst>
              <a:gd name="adj1" fmla="val 49987"/>
            </a:avLst>
          </a:prstGeom>
          <a:ln w="76320">
            <a:solidFill>
              <a:srgbClr val="ff0066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1752480" y="2819520"/>
            <a:ext cx="152640" cy="38088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91120" y="3657600"/>
            <a:ext cx="152280" cy="380880"/>
          </a:xfrm>
          <a:prstGeom prst="rect">
            <a:avLst/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809880" y="4114800"/>
            <a:ext cx="1676520" cy="13716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172200" y="5029200"/>
            <a:ext cx="1981080" cy="1219320"/>
          </a:xfrm>
          <a:prstGeom prst="rect">
            <a:avLst/>
          </a:prstGeom>
          <a:gradFill rotWithShape="0">
            <a:gsLst>
              <a:gs pos="0">
                <a:srgbClr val="005e46"/>
              </a:gs>
              <a:gs pos="50000">
                <a:srgbClr val="00cc99"/>
              </a:gs>
              <a:gs pos="100000">
                <a:srgbClr val="005e4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ORBA a Obiektowe Bazy Dany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838080" y="3200400"/>
            <a:ext cx="7696440" cy="53352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50000">
                <a:srgbClr val="cc99ff"/>
              </a:gs>
              <a:gs pos="100000">
                <a:srgbClr val="006699"/>
              </a:gs>
            </a:gsLst>
            <a:lin ang="5400000"/>
          </a:gradFill>
          <a:ln w="3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371600" y="2438280"/>
            <a:ext cx="914400" cy="4572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cc00"/>
                </a:solidFill>
                <a:latin typeface="Arial"/>
              </a:rPr>
              <a:t>CORB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cc00"/>
                </a:solidFill>
                <a:latin typeface="Arial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962520" y="4419720"/>
            <a:ext cx="609480" cy="4572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724280" y="4419720"/>
            <a:ext cx="609840" cy="4572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09880" y="5105520"/>
            <a:ext cx="1676520" cy="3808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00"/>
                </a:solidFill>
                <a:latin typeface="Arial"/>
              </a:rPr>
              <a:t>ODB Cli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86200" y="5638680"/>
            <a:ext cx="1676520" cy="609840"/>
          </a:xfrm>
          <a:prstGeom prst="rect">
            <a:avLst/>
          </a:prstGeom>
          <a:solidFill>
            <a:srgbClr val="99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00"/>
                </a:solidFill>
                <a:latin typeface="Arial"/>
              </a:rPr>
              <a:t>ODB 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400800" y="5410080"/>
            <a:ext cx="380880" cy="304920"/>
          </a:xfrm>
          <a:prstGeom prst="ellipse">
            <a:avLst/>
          </a:prstGeom>
          <a:gradFill rotWithShape="0">
            <a:gsLst>
              <a:gs pos="0">
                <a:srgbClr val="00808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010280" y="5410080"/>
            <a:ext cx="381240" cy="304920"/>
          </a:xfrm>
          <a:prstGeom prst="ellipse">
            <a:avLst/>
          </a:prstGeom>
          <a:gradFill rotWithShape="0">
            <a:gsLst>
              <a:gs pos="0">
                <a:srgbClr val="00808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543800" y="5410080"/>
            <a:ext cx="380880" cy="304920"/>
          </a:xfrm>
          <a:prstGeom prst="ellipse">
            <a:avLst/>
          </a:prstGeom>
          <a:gradFill rotWithShape="0">
            <a:gsLst>
              <a:gs pos="0">
                <a:srgbClr val="008080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299600" y="4419720"/>
            <a:ext cx="232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cc00"/>
                </a:solidFill>
                <a:latin typeface="Arial"/>
              </a:rPr>
              <a:t>CORBA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828800" y="2895480"/>
            <a:ext cx="0" cy="60984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828800" y="3505320"/>
            <a:ext cx="2438280" cy="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267080" y="3505320"/>
            <a:ext cx="0" cy="91440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257800" y="4724280"/>
            <a:ext cx="1828800" cy="685800"/>
          </a:xfrm>
          <a:prstGeom prst="line">
            <a:avLst/>
          </a:prstGeom>
          <a:ln cap="rnd" w="9360">
            <a:solidFill>
              <a:srgbClr val="ff0066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419720" y="4800600"/>
            <a:ext cx="2057400" cy="685800"/>
          </a:xfrm>
          <a:prstGeom prst="line">
            <a:avLst/>
          </a:prstGeom>
          <a:ln cap="rnd" w="9360">
            <a:solidFill>
              <a:srgbClr val="ff0066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715000" y="5867280"/>
            <a:ext cx="457200" cy="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648320" y="5486400"/>
            <a:ext cx="0" cy="152280"/>
          </a:xfrm>
          <a:prstGeom prst="line">
            <a:avLst/>
          </a:prstGeom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545440" y="1839960"/>
            <a:ext cx="2611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cc"/>
                </a:solidFill>
                <a:latin typeface="Arial"/>
              </a:rPr>
              <a:t>Transmisja Operacj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cc"/>
                </a:solidFill>
                <a:latin typeface="Arial"/>
              </a:rPr>
              <a:t>               </a:t>
            </a:r>
            <a:r>
              <a:rPr b="1" lang="en-US" sz="2000" spc="-1" strike="noStrike">
                <a:solidFill>
                  <a:srgbClr val="9900cc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cc"/>
                </a:solidFill>
                <a:latin typeface="Arial"/>
              </a:rPr>
              <a:t>Transmisja Dany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478920" y="327672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929200" y="437976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0066"/>
                </a:solidFill>
                <a:latin typeface="Arial"/>
              </a:rPr>
              <a:t>Vie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990720" y="1905120"/>
            <a:ext cx="7162560" cy="914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etoda badawcz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/>
          <p:nvPr/>
        </p:nvSpPr>
        <p:spPr>
          <a:xfrm>
            <a:off x="1447920" y="1981080"/>
            <a:ext cx="643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        </a:t>
            </a: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Weryfikacja rozwiązań na drodz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Arial"/>
              </a:rPr>
              <a:t>implementacji eksperymentalnych aplikacj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896200" y="3124080"/>
            <a:ext cx="296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ystemy lokalizacj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920" y="4495680"/>
            <a:ext cx="368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ystemy monitorowa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285280" y="5257800"/>
            <a:ext cx="482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ff"/>
                </a:solidFill>
                <a:latin typeface="Arial"/>
              </a:rPr>
              <a:t>Systemy wrażliwe na lokalizac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ff"/>
                </a:solidFill>
                <a:latin typeface="Arial"/>
              </a:rPr>
              <a:t>           </a:t>
            </a:r>
            <a:r>
              <a:rPr b="1" lang="pl-PL" sz="2400" spc="-1" strike="noStrike">
                <a:solidFill>
                  <a:srgbClr val="0000ff"/>
                </a:solidFill>
                <a:latin typeface="Arial"/>
              </a:rPr>
              <a:t>mobile multime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981080" y="3809880"/>
            <a:ext cx="492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ff"/>
                </a:solidFill>
                <a:latin typeface="Arial"/>
              </a:rPr>
              <a:t>Sieciowe systemy multimedial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ystemy wrażliwe na lokalizację  (W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pic>
        <p:nvPicPr>
          <p:cNvPr id="326" name="spirit" descr=""/>
          <p:cNvPicPr/>
          <p:nvPr/>
        </p:nvPicPr>
        <p:blipFill>
          <a:blip r:embed="rId2"/>
          <a:stretch/>
        </p:blipFill>
        <p:spPr>
          <a:xfrm>
            <a:off x="1676520" y="1828800"/>
            <a:ext cx="6019560" cy="383364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2511720" y="5867280"/>
            <a:ext cx="437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Wirtualny świat  a lokalizac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ystem B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pic>
        <p:nvPicPr>
          <p:cNvPr id="331" name="ic" descr=""/>
          <p:cNvPicPr/>
          <p:nvPr/>
        </p:nvPicPr>
        <p:blipFill>
          <a:blip r:embed="rId2"/>
          <a:stretch/>
        </p:blipFill>
        <p:spPr>
          <a:xfrm>
            <a:off x="533520" y="2133720"/>
            <a:ext cx="5410080" cy="3886200"/>
          </a:xfrm>
          <a:prstGeom prst="rect">
            <a:avLst/>
          </a:prstGeom>
          <a:ln w="0">
            <a:noFill/>
          </a:ln>
        </p:spPr>
      </p:pic>
      <p:pic>
        <p:nvPicPr>
          <p:cNvPr id="332" name="theory" descr=""/>
          <p:cNvPicPr/>
          <p:nvPr/>
        </p:nvPicPr>
        <p:blipFill>
          <a:blip r:embed="rId3"/>
          <a:stretch/>
        </p:blipFill>
        <p:spPr>
          <a:xfrm>
            <a:off x="6095880" y="2743200"/>
            <a:ext cx="2714760" cy="23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ktywna  plakietka  systemu BAT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pic>
        <p:nvPicPr>
          <p:cNvPr id="336" name="nb" descr=""/>
          <p:cNvPicPr/>
          <p:nvPr/>
        </p:nvPicPr>
        <p:blipFill>
          <a:blip r:embed="rId2"/>
          <a:stretch/>
        </p:blipFill>
        <p:spPr>
          <a:xfrm>
            <a:off x="2514600" y="2514600"/>
            <a:ext cx="3809880" cy="30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lakietki Systemu 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pic>
        <p:nvPicPr>
          <p:cNvPr id="340" name="badges" descr=""/>
          <p:cNvPicPr/>
          <p:nvPr/>
        </p:nvPicPr>
        <p:blipFill>
          <a:blip r:embed="rId2"/>
          <a:stretch/>
        </p:blipFill>
        <p:spPr>
          <a:xfrm>
            <a:off x="1219320" y="2057400"/>
            <a:ext cx="6553080" cy="38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Architektura systemu W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pic>
        <p:nvPicPr>
          <p:cNvPr id="344" name="architecture" descr=""/>
          <p:cNvPicPr/>
          <p:nvPr/>
        </p:nvPicPr>
        <p:blipFill>
          <a:blip r:embed="rId2"/>
          <a:stretch/>
        </p:blipFill>
        <p:spPr>
          <a:xfrm>
            <a:off x="1447920" y="1981080"/>
            <a:ext cx="62690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Zakres wykład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523880" y="2590920"/>
            <a:ext cx="381240" cy="38088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360880" y="2590920"/>
            <a:ext cx="5177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Kierunki rozwoju oprogramowa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systemów rozproszony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23880" y="4800600"/>
            <a:ext cx="381240" cy="38088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523880" y="3733920"/>
            <a:ext cx="381240" cy="38088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437920" y="3657600"/>
            <a:ext cx="529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Własności  wybranych architektur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roblemy badawc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440440" y="4724280"/>
            <a:ext cx="507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rzykładowe obszary zastosowa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5410080" y="2895480"/>
            <a:ext cx="3276720" cy="198144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33520" y="2971800"/>
            <a:ext cx="3276360" cy="198108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349" name=""/>
          <p:cNvSpPr/>
          <p:nvPr/>
        </p:nvSpPr>
        <p:spPr>
          <a:xfrm>
            <a:off x="1219320" y="3429000"/>
            <a:ext cx="838080" cy="45720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ff00"/>
                </a:solidFill>
                <a:latin typeface="Arial"/>
              </a:rPr>
              <a:t>MediaCtr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809880" y="2514600"/>
            <a:ext cx="1371600" cy="60948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00"/>
                </a:solidFill>
                <a:latin typeface="Arial"/>
              </a:rPr>
              <a:t>StreamCtr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362320" y="3429000"/>
            <a:ext cx="838080" cy="45720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ff00"/>
                </a:solidFill>
                <a:latin typeface="Arial"/>
              </a:rPr>
              <a:t>VDe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066680" y="4191120"/>
            <a:ext cx="1067040" cy="3045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0066"/>
                </a:solidFill>
                <a:latin typeface="Arial"/>
              </a:rPr>
              <a:t>MMDe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2209680" y="4952880"/>
          <a:ext cx="2837160" cy="1255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5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09680" y="4952880"/>
                    <a:ext cx="2837160" cy="125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5" name=""/>
          <p:cNvGraphicFramePr/>
          <p:nvPr/>
        </p:nvGraphicFramePr>
        <p:xfrm>
          <a:off x="4114800" y="4876920"/>
          <a:ext cx="2825640" cy="1527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114800" y="4876920"/>
                    <a:ext cx="2825640" cy="152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7" name=""/>
          <p:cNvSpPr/>
          <p:nvPr/>
        </p:nvSpPr>
        <p:spPr>
          <a:xfrm>
            <a:off x="609480" y="5562720"/>
            <a:ext cx="5334120" cy="7617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486400" y="5867280"/>
            <a:ext cx="2209680" cy="3812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352680" y="5334120"/>
            <a:ext cx="2590920" cy="228600"/>
          </a:xfrm>
          <a:prstGeom prst="leftRightArrow">
            <a:avLst>
              <a:gd name="adj1" fmla="val 50000"/>
              <a:gd name="adj2" fmla="val 22562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362320" y="4114800"/>
            <a:ext cx="990360" cy="457200"/>
          </a:xfrm>
          <a:prstGeom prst="ellipse">
            <a:avLst/>
          </a:prstGeom>
          <a:blipFill rotWithShape="0">
            <a:blip r:embed="rId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ff00"/>
                </a:solidFill>
                <a:latin typeface="Arial"/>
              </a:rPr>
              <a:t>Stre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ff00"/>
                </a:solidFill>
                <a:latin typeface="Arial"/>
              </a:rPr>
              <a:t>Endpo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943600" y="3429000"/>
            <a:ext cx="838080" cy="457200"/>
          </a:xfrm>
          <a:prstGeom prst="ellipse">
            <a:avLst/>
          </a:prstGeom>
          <a:blipFill rotWithShape="0">
            <a:blip r:embed="rId10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ff00"/>
                </a:solidFill>
                <a:latin typeface="Arial"/>
              </a:rPr>
              <a:t>VDe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943600" y="4114800"/>
            <a:ext cx="990720" cy="457200"/>
          </a:xfrm>
          <a:prstGeom prst="ellipse">
            <a:avLst/>
          </a:prstGeom>
          <a:blipFill rotWithShape="0">
            <a:blip r:embed="rId1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ff00"/>
                </a:solidFill>
                <a:latin typeface="Arial"/>
              </a:rPr>
              <a:t>Stre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ff00"/>
                </a:solidFill>
                <a:latin typeface="Arial"/>
              </a:rPr>
              <a:t>Endpo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7086600" y="3505320"/>
            <a:ext cx="838080" cy="457200"/>
          </a:xfrm>
          <a:prstGeom prst="ellipse">
            <a:avLst/>
          </a:prstGeom>
          <a:blipFill rotWithShape="0">
            <a:blip r:embed="rId1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ff00"/>
                </a:solidFill>
                <a:latin typeface="Arial"/>
              </a:rPr>
              <a:t>MediaCtr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7086600" y="4267080"/>
            <a:ext cx="1066680" cy="3049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0066"/>
                </a:solidFill>
                <a:latin typeface="Arial"/>
              </a:rPr>
              <a:t>MMDe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V="1">
            <a:off x="1981080" y="3276720"/>
            <a:ext cx="457200" cy="76176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781680" y="3429000"/>
            <a:ext cx="533520" cy="7621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V="1">
            <a:off x="2438280" y="2895120"/>
            <a:ext cx="1371600" cy="38124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181480" y="2895480"/>
            <a:ext cx="160020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2286000" y="3809520"/>
            <a:ext cx="228600" cy="22860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286000" y="4191120"/>
            <a:ext cx="152280" cy="7596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705720" y="3809880"/>
            <a:ext cx="457200" cy="38124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V="1">
            <a:off x="6934320" y="4343400"/>
            <a:ext cx="152280" cy="763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200400" y="3657600"/>
            <a:ext cx="27432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352680" y="4343400"/>
            <a:ext cx="2590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600200" y="3886200"/>
            <a:ext cx="0" cy="152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7620120" y="3962520"/>
            <a:ext cx="0" cy="15228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Times New Roman"/>
              </a:rPr>
              <a:t>OMG A/V Streams Contr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latforma sprzętowa W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/>
          <p:nvPr/>
        </p:nvSpPr>
        <p:spPr>
          <a:xfrm>
            <a:off x="2133720" y="2971800"/>
            <a:ext cx="5333760" cy="1600200"/>
          </a:xfrm>
          <a:prstGeom prst="ellipse">
            <a:avLst/>
          </a:prstGeom>
          <a:gradFill rotWithShape="0">
            <a:gsLst>
              <a:gs pos="0">
                <a:srgbClr val="00cc99"/>
              </a:gs>
              <a:gs pos="100000">
                <a:srgbClr val="0099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MA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2" name="acl2640" descr=""/>
          <p:cNvPicPr/>
          <p:nvPr/>
        </p:nvPicPr>
        <p:blipFill>
          <a:blip r:embed="rId2"/>
          <a:stretch/>
        </p:blipFill>
        <p:spPr>
          <a:xfrm>
            <a:off x="685800" y="1981080"/>
            <a:ext cx="2438280" cy="3886200"/>
          </a:xfrm>
          <a:prstGeom prst="rect">
            <a:avLst/>
          </a:prstGeom>
          <a:ln w="0">
            <a:noFill/>
          </a:ln>
        </p:spPr>
      </p:pic>
      <p:pic>
        <p:nvPicPr>
          <p:cNvPr id="383" name="smc" descr=""/>
          <p:cNvPicPr/>
          <p:nvPr/>
        </p:nvPicPr>
        <p:blipFill>
          <a:blip r:embed="rId3"/>
          <a:stretch/>
        </p:blipFill>
        <p:spPr>
          <a:xfrm>
            <a:off x="6324480" y="2743200"/>
            <a:ext cx="2057400" cy="21337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384" name=""/>
          <p:cNvSpPr/>
          <p:nvPr/>
        </p:nvSpPr>
        <p:spPr>
          <a:xfrm>
            <a:off x="3202200" y="1981080"/>
            <a:ext cx="99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2.64 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7377480" y="209376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50 G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28600" y="5866920"/>
            <a:ext cx="327672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Robot taśmow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ACL 26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783480" y="5105520"/>
            <a:ext cx="137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3333cc"/>
                </a:solidFill>
                <a:latin typeface="Arial"/>
              </a:rPr>
              <a:t>SUN Med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1" lang="pl-PL" sz="1800" spc="-1" strike="noStrike">
                <a:solidFill>
                  <a:srgbClr val="3333cc"/>
                </a:solidFill>
                <a:latin typeface="Arial"/>
              </a:rPr>
              <a:t>Cen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c0c0"/>
                </a:solidFill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rchitektura systemu  WSP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/>
          <p:nvPr/>
        </p:nvSpPr>
        <p:spPr>
          <a:xfrm>
            <a:off x="1905120" y="3581280"/>
            <a:ext cx="5486400" cy="2057400"/>
          </a:xfrm>
          <a:prstGeom prst="ellipse">
            <a:avLst/>
          </a:prstGeom>
          <a:gradFill rotWithShape="0">
            <a:gsLst>
              <a:gs pos="0">
                <a:srgbClr val="00cc99"/>
              </a:gs>
              <a:gs pos="100000">
                <a:srgbClr val="0099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2" name="acl2640" descr=""/>
          <p:cNvPicPr/>
          <p:nvPr/>
        </p:nvPicPr>
        <p:blipFill>
          <a:blip r:embed="rId2"/>
          <a:stretch/>
        </p:blipFill>
        <p:spPr>
          <a:xfrm>
            <a:off x="1295280" y="3809880"/>
            <a:ext cx="838440" cy="1295640"/>
          </a:xfrm>
          <a:prstGeom prst="rect">
            <a:avLst/>
          </a:prstGeom>
          <a:ln w="0">
            <a:noFill/>
          </a:ln>
        </p:spPr>
      </p:pic>
      <p:pic>
        <p:nvPicPr>
          <p:cNvPr id="393" name="smc" descr=""/>
          <p:cNvPicPr/>
          <p:nvPr/>
        </p:nvPicPr>
        <p:blipFill>
          <a:blip r:embed="rId3"/>
          <a:stretch/>
        </p:blipFill>
        <p:spPr>
          <a:xfrm>
            <a:off x="7238880" y="4267080"/>
            <a:ext cx="685800" cy="7621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394" name=""/>
          <p:cNvSpPr/>
          <p:nvPr/>
        </p:nvSpPr>
        <p:spPr>
          <a:xfrm>
            <a:off x="6629400" y="4800600"/>
            <a:ext cx="762120" cy="6858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981080" y="4724280"/>
            <a:ext cx="762120" cy="6858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267080" y="3429000"/>
            <a:ext cx="762120" cy="68580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S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209680" y="4343400"/>
            <a:ext cx="4876920" cy="30492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50000">
                <a:srgbClr val="cc99ff"/>
              </a:gs>
              <a:gs pos="100000">
                <a:srgbClr val="0066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09680" y="2438280"/>
            <a:ext cx="91440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114800" y="2438280"/>
            <a:ext cx="91440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943600" y="2438280"/>
            <a:ext cx="914400" cy="4572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4495680" y="2895480"/>
            <a:ext cx="228600" cy="609840"/>
          </a:xfrm>
          <a:prstGeom prst="upDownArrow">
            <a:avLst>
              <a:gd name="adj1" fmla="val 50000"/>
              <a:gd name="adj2" fmla="val 53107"/>
            </a:avLst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V="1" rot="3532800">
            <a:off x="5601600" y="2551680"/>
            <a:ext cx="188640" cy="1486080"/>
          </a:xfrm>
          <a:prstGeom prst="upDownArrow">
            <a:avLst>
              <a:gd name="adj1" fmla="val 50000"/>
              <a:gd name="adj2" fmla="val 156828"/>
            </a:avLst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flipH="1" rot="17667000">
            <a:off x="3331080" y="2459160"/>
            <a:ext cx="195120" cy="1676160"/>
          </a:xfrm>
          <a:prstGeom prst="upDownArrow">
            <a:avLst>
              <a:gd name="adj1" fmla="val 50000"/>
              <a:gd name="adj2" fmla="val 171013"/>
            </a:avLst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2209680" y="4495680"/>
            <a:ext cx="228600" cy="381240"/>
          </a:xfrm>
          <a:prstGeom prst="upDownArrow">
            <a:avLst>
              <a:gd name="adj1" fmla="val 50000"/>
              <a:gd name="adj2" fmla="val 33200"/>
            </a:avLst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858000" y="4495680"/>
            <a:ext cx="228600" cy="381240"/>
          </a:xfrm>
          <a:prstGeom prst="upDownArrow">
            <a:avLst>
              <a:gd name="adj1" fmla="val 50000"/>
              <a:gd name="adj2" fmla="val 33200"/>
            </a:avLst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4038480"/>
            <a:ext cx="228600" cy="381240"/>
          </a:xfrm>
          <a:prstGeom prst="upDownArrow">
            <a:avLst>
              <a:gd name="adj1" fmla="val 50000"/>
              <a:gd name="adj2" fmla="val 33200"/>
            </a:avLst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276720" y="495288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pl-PL" sz="2800" spc="-1" strike="noStrike">
                <a:solidFill>
                  <a:srgbClr val="ffff00"/>
                </a:solidFill>
                <a:latin typeface="Arial"/>
              </a:rPr>
              <a:t>Inter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267800" y="4267080"/>
            <a:ext cx="84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 I O 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Times New Roman"/>
              </a:rPr>
              <a:t>WFS interface użytkowni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1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pic>
        <p:nvPicPr>
          <p:cNvPr id="412" name="vfs2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733920" y="1981080"/>
            <a:ext cx="464796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"/>
          <p:cNvSpPr/>
          <p:nvPr/>
        </p:nvSpPr>
        <p:spPr>
          <a:xfrm rot="2326800">
            <a:off x="3428640" y="4114440"/>
            <a:ext cx="18108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038480" y="2666880"/>
            <a:ext cx="152640" cy="2286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400800" y="3276720"/>
            <a:ext cx="609480" cy="1522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438280" y="3429000"/>
            <a:ext cx="533520" cy="1522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rot="18576600">
            <a:off x="5936400" y="3816720"/>
            <a:ext cx="168480" cy="1068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Times New Roman"/>
              </a:rPr>
              <a:t>Mobilne multimed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0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/>
          <p:nvPr/>
        </p:nvSpPr>
        <p:spPr>
          <a:xfrm>
            <a:off x="3809880" y="2209680"/>
            <a:ext cx="609840" cy="4572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886200" y="2286000"/>
            <a:ext cx="45720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019920" y="4648320"/>
            <a:ext cx="609480" cy="4572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095880" y="4724280"/>
            <a:ext cx="45720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743200" y="4419720"/>
            <a:ext cx="609480" cy="4572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819520" y="4495680"/>
            <a:ext cx="45720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010280" y="3124080"/>
            <a:ext cx="609840" cy="4572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7086600" y="3200400"/>
            <a:ext cx="457200" cy="304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581280" y="2819520"/>
            <a:ext cx="1676520" cy="114300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2895480" y="2971800"/>
            <a:ext cx="1676520" cy="114300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429000" y="3200400"/>
            <a:ext cx="1676520" cy="114300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191120" y="2819520"/>
            <a:ext cx="1676160" cy="114300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191120" y="3276720"/>
            <a:ext cx="1676160" cy="114300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876920" y="3048120"/>
            <a:ext cx="1676160" cy="1143000"/>
          </a:xfrm>
          <a:prstGeom prst="ellipse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905120" y="3276720"/>
            <a:ext cx="685800" cy="457200"/>
          </a:xfrm>
          <a:prstGeom prst="rect">
            <a:avLst/>
          </a:prstGeom>
          <a:gradFill rotWithShape="0">
            <a:gsLst>
              <a:gs pos="0">
                <a:srgbClr val="003366"/>
              </a:gs>
              <a:gs pos="50000">
                <a:srgbClr val="ffffff"/>
              </a:gs>
              <a:gs pos="100000">
                <a:srgbClr val="003366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6248520" y="5181480"/>
            <a:ext cx="152280" cy="152640"/>
          </a:xfrm>
          <a:prstGeom prst="ellipse">
            <a:avLst/>
          </a:prstGeom>
          <a:solidFill>
            <a:srgbClr val="ffcc00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6324480" y="5334120"/>
            <a:ext cx="0" cy="30456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H="1">
            <a:off x="6095520" y="5638680"/>
            <a:ext cx="228600" cy="38124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324480" y="5638680"/>
            <a:ext cx="152640" cy="38124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248520" y="5410080"/>
            <a:ext cx="152280" cy="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H="1">
            <a:off x="6095880" y="5410080"/>
            <a:ext cx="152640" cy="22860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400800" y="5410080"/>
            <a:ext cx="152280" cy="15264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3" name=""/>
          <p:cNvCxnSpPr>
            <a:stCxn id="435" idx="3"/>
            <a:endCxn id="425" idx="3"/>
          </p:cNvCxnSpPr>
          <p:nvPr/>
        </p:nvCxnSpPr>
        <p:spPr>
          <a:xfrm>
            <a:off x="2590920" y="3504960"/>
            <a:ext cx="762480" cy="1143720"/>
          </a:xfrm>
          <a:prstGeom prst="curvedConnector5">
            <a:avLst>
              <a:gd name="adj1" fmla="val 129995"/>
              <a:gd name="adj2" fmla="val 50000"/>
              <a:gd name="adj3" fmla="val 129995"/>
            </a:avLst>
          </a:prstGeom>
          <a:ln w="3816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444" name=""/>
          <p:cNvCxnSpPr>
            <a:stCxn id="435" idx="3"/>
            <a:endCxn id="423" idx="0"/>
          </p:cNvCxnSpPr>
          <p:nvPr/>
        </p:nvCxnSpPr>
        <p:spPr>
          <a:xfrm>
            <a:off x="2590560" y="3504960"/>
            <a:ext cx="3734280" cy="1143720"/>
          </a:xfrm>
          <a:prstGeom prst="curvedConnector2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445" name=""/>
          <p:cNvCxnSpPr>
            <a:stCxn id="435" idx="3"/>
            <a:endCxn id="421" idx="2"/>
          </p:cNvCxnSpPr>
          <p:nvPr/>
        </p:nvCxnSpPr>
        <p:spPr>
          <a:xfrm flipV="1">
            <a:off x="2590560" y="2666160"/>
            <a:ext cx="1524600" cy="839160"/>
          </a:xfrm>
          <a:prstGeom prst="curvedConnector2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</p:cxnSp>
      <p:sp>
        <p:nvSpPr>
          <p:cNvPr id="446" name=""/>
          <p:cNvSpPr/>
          <p:nvPr/>
        </p:nvSpPr>
        <p:spPr>
          <a:xfrm flipV="1">
            <a:off x="2743200" y="3352680"/>
            <a:ext cx="4267080" cy="15264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2971800" y="4572000"/>
            <a:ext cx="228600" cy="1522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248520" y="4800600"/>
            <a:ext cx="228600" cy="1522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7162920" y="3276720"/>
            <a:ext cx="228600" cy="1522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038480" y="2362320"/>
            <a:ext cx="228600" cy="1522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429000" y="4800600"/>
            <a:ext cx="152280" cy="152280"/>
          </a:xfrm>
          <a:prstGeom prst="ellipse">
            <a:avLst/>
          </a:prstGeom>
          <a:solidFill>
            <a:srgbClr val="ffcc00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505320" y="4952880"/>
            <a:ext cx="0" cy="30492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flipH="1">
            <a:off x="3276360" y="5257800"/>
            <a:ext cx="228600" cy="38088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505320" y="5257800"/>
            <a:ext cx="152280" cy="38088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429000" y="5029200"/>
            <a:ext cx="152280" cy="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flipH="1">
            <a:off x="3276360" y="5029200"/>
            <a:ext cx="152280" cy="22860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3581280" y="5029200"/>
            <a:ext cx="152640" cy="15228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7391520" y="3657600"/>
            <a:ext cx="152280" cy="152280"/>
          </a:xfrm>
          <a:prstGeom prst="ellipse">
            <a:avLst/>
          </a:prstGeom>
          <a:solidFill>
            <a:srgbClr val="ffcc00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7467480" y="3809880"/>
            <a:ext cx="0" cy="30492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>
            <a:off x="7238520" y="4114800"/>
            <a:ext cx="228600" cy="38088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7467480" y="4114800"/>
            <a:ext cx="152640" cy="38088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7391520" y="3886200"/>
            <a:ext cx="152280" cy="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flipH="1">
            <a:off x="7238880" y="3886200"/>
            <a:ext cx="152640" cy="22860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7543800" y="3886200"/>
            <a:ext cx="152280" cy="15228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648320" y="1981080"/>
            <a:ext cx="152280" cy="152640"/>
          </a:xfrm>
          <a:prstGeom prst="ellipse">
            <a:avLst/>
          </a:prstGeom>
          <a:solidFill>
            <a:srgbClr val="ffcc00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724280" y="2133720"/>
            <a:ext cx="0" cy="30456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 flipH="1">
            <a:off x="4495320" y="2438280"/>
            <a:ext cx="228600" cy="38124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724280" y="2438280"/>
            <a:ext cx="152640" cy="38124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648320" y="2209680"/>
            <a:ext cx="152280" cy="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4495680" y="2209680"/>
            <a:ext cx="152640" cy="22860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800600" y="2209680"/>
            <a:ext cx="152280" cy="152640"/>
          </a:xfrm>
          <a:prstGeom prst="line">
            <a:avLst/>
          </a:prstGeom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735920" y="376704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0066"/>
                </a:solidFill>
                <a:latin typeface="Arial"/>
              </a:rPr>
              <a:t>Video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4572000" y="289548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SIEĆ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752480" y="5791320"/>
            <a:ext cx="218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0066"/>
                </a:solidFill>
                <a:latin typeface="Arial"/>
              </a:rPr>
              <a:t>Video follow  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33040" y="5029200"/>
            <a:ext cx="20156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cc"/>
                </a:solidFill>
                <a:latin typeface="Arial"/>
              </a:rPr>
              <a:t>Powiązani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cc"/>
                </a:solidFill>
                <a:latin typeface="Arial"/>
              </a:rPr>
              <a:t>Sieciowych 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cc"/>
                </a:solidFill>
                <a:latin typeface="Arial"/>
              </a:rPr>
              <a:t>Systemów Lokalizacj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/>
          <p:nvPr/>
        </p:nvSpPr>
        <p:spPr>
          <a:xfrm>
            <a:off x="1143000" y="2286000"/>
            <a:ext cx="7086600" cy="2209680"/>
          </a:xfrm>
          <a:prstGeom prst="ellipse">
            <a:avLst/>
          </a:prstGeom>
          <a:gradFill rotWithShape="0">
            <a:gsLst>
              <a:gs pos="0">
                <a:srgbClr val="000099"/>
              </a:gs>
              <a:gs pos="100000">
                <a:srgbClr val="cc99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143000" y="2514600"/>
            <a:ext cx="5715000" cy="1752480"/>
          </a:xfrm>
          <a:prstGeom prst="ellipse">
            <a:avLst/>
          </a:prstGeom>
          <a:gradFill rotWithShape="0">
            <a:gsLst>
              <a:gs pos="0">
                <a:srgbClr val="000099"/>
              </a:gs>
              <a:gs pos="100000">
                <a:srgbClr val="66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143000" y="2590920"/>
            <a:ext cx="4419720" cy="152388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Rozwój technologii oprogramowan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1" name="" descr=""/>
          <p:cNvPicPr/>
          <p:nvPr/>
        </p:nvPicPr>
        <p:blipFill>
          <a:blip r:embed="rId2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482" name=""/>
          <p:cNvSpPr/>
          <p:nvPr/>
        </p:nvSpPr>
        <p:spPr>
          <a:xfrm>
            <a:off x="1143000" y="2895480"/>
            <a:ext cx="2743200" cy="99072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219320" y="5181480"/>
            <a:ext cx="7238880" cy="457200"/>
          </a:xfrm>
          <a:prstGeom prst="rightArrow">
            <a:avLst>
              <a:gd name="adj1" fmla="val 50000"/>
              <a:gd name="adj2" fmla="val 39582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1371600" y="3276720"/>
            <a:ext cx="1143000" cy="228600"/>
          </a:xfrm>
          <a:prstGeom prst="leftRightArrow">
            <a:avLst>
              <a:gd name="adj1" fmla="val 50000"/>
              <a:gd name="adj2" fmla="val 9953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516040" y="2941560"/>
            <a:ext cx="1041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00"/>
                </a:solidFill>
                <a:latin typeface="Arial"/>
              </a:rPr>
              <a:t>Szy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00"/>
                </a:solidFill>
                <a:latin typeface="Arial"/>
              </a:rPr>
              <a:t>Komp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886200" y="2941560"/>
            <a:ext cx="1581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Usług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Systemow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5623200" y="2906640"/>
            <a:ext cx="122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Ram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plikacj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6782040" y="2971800"/>
            <a:ext cx="1296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Serwe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plikacj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630120" y="5867280"/>
            <a:ext cx="124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Rozwó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odsumowani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2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493" name=""/>
          <p:cNvSpPr/>
          <p:nvPr/>
        </p:nvSpPr>
        <p:spPr>
          <a:xfrm>
            <a:off x="1750680" y="4724280"/>
            <a:ext cx="655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ff"/>
                </a:solidFill>
                <a:latin typeface="Arial"/>
              </a:rPr>
              <a:t>Postęp w tym zakresie jest możliwy poprz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ff"/>
                </a:solidFill>
                <a:latin typeface="Arial"/>
              </a:rPr>
              <a:t>weryfikację praktyczną koncepcji teoretycz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ff"/>
                </a:solidFill>
                <a:latin typeface="Arial"/>
              </a:rPr>
              <a:t>nych rozwiąza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219320" y="2666880"/>
            <a:ext cx="380880" cy="38124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752480" y="2666880"/>
            <a:ext cx="6008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Wykorzystanie zasobów sieciowych j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związane z konstrukcją nowoczesnyc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warstw pośredniczący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143000" y="4724280"/>
            <a:ext cx="380880" cy="38124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5562720" y="2057400"/>
            <a:ext cx="1981080" cy="1676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33720" y="2057400"/>
            <a:ext cx="2666880" cy="1676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odel  komunikacj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09480" y="2666880"/>
            <a:ext cx="1981440" cy="4572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Prezentacj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9480" y="3276720"/>
            <a:ext cx="1981440" cy="4572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Sesj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9480" y="2057400"/>
            <a:ext cx="1981440" cy="4572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plikacj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4495680"/>
            <a:ext cx="1981440" cy="4572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Siec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9480" y="5105520"/>
            <a:ext cx="1981440" cy="4572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09480" y="3886200"/>
            <a:ext cx="1981440" cy="4572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Transport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9480" y="5715000"/>
            <a:ext cx="1981440" cy="4572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822240" y="5726160"/>
            <a:ext cx="124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Fizycz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69960" y="5116680"/>
            <a:ext cx="185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Łącza dany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743200" y="3276720"/>
            <a:ext cx="4648320" cy="3045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57600" y="3429000"/>
            <a:ext cx="29718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657600" y="266688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629400" y="266688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181480" y="3657600"/>
            <a:ext cx="83844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252680" y="2097000"/>
            <a:ext cx="62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562720" y="2133720"/>
            <a:ext cx="6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5029200" y="4876920"/>
            <a:ext cx="2286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Middleware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4" name=""/>
          <p:cNvSpPr/>
          <p:nvPr/>
        </p:nvSpPr>
        <p:spPr>
          <a:xfrm>
            <a:off x="4269600" y="5638680"/>
            <a:ext cx="365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Warstwa Pośredniczą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666880" y="3886200"/>
            <a:ext cx="1981440" cy="4572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TCP UD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666880" y="4419720"/>
            <a:ext cx="1981440" cy="4572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2286000"/>
            <a:ext cx="457200" cy="3808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429000" y="2286000"/>
            <a:ext cx="457200" cy="380880"/>
          </a:xfrm>
          <a:prstGeom prst="rect">
            <a:avLst/>
          </a:prstGeom>
          <a:gradFill rotWithShape="0">
            <a:gsLst>
              <a:gs pos="0">
                <a:srgbClr val="d60093"/>
              </a:gs>
              <a:gs pos="100000">
                <a:srgbClr val="cc00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arstwa pośredniczą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 txBox="1"/>
          <p:nvPr/>
        </p:nvSpPr>
        <p:spPr>
          <a:xfrm>
            <a:off x="3429000" y="2133720"/>
            <a:ext cx="22860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Middleware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676520" y="3048120"/>
            <a:ext cx="144756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100000">
                      <a:srgbClr val="00cc99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CORBA</a:t>
            </a:r>
            <a:endParaRPr b="0" lang="en-US" sz="28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100000">
                    <a:srgbClr val="00cc99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638680" y="3124080"/>
            <a:ext cx="129564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cc99ff"/>
                    </a:gs>
                    <a:gs pos="100000">
                      <a:srgbClr val="5e4675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DCOM</a:t>
            </a:r>
            <a:endParaRPr b="0" lang="en-US" sz="2800" spc="1" strike="noStrike">
              <a:ln w="0">
                <a:noFill/>
              </a:ln>
              <a:gradFill rotWithShape="0">
                <a:gsLst>
                  <a:gs pos="0">
                    <a:srgbClr val="cc99ff"/>
                  </a:gs>
                  <a:gs pos="100000">
                    <a:srgbClr val="5e4675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5" name=""/>
          <p:cNvSpPr/>
          <p:nvPr/>
        </p:nvSpPr>
        <p:spPr>
          <a:xfrm>
            <a:off x="1906560" y="3809880"/>
            <a:ext cx="82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IB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H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G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410080" y="4419720"/>
            <a:ext cx="200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ff0066"/>
                </a:solidFill>
                <a:latin typeface="Arial"/>
              </a:rPr>
              <a:t>Microso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907640" y="5791320"/>
            <a:ext cx="510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Środowiska obiektow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504960" y="2971800"/>
            <a:ext cx="60948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00600" y="2971800"/>
            <a:ext cx="60948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114800" y="4038480"/>
            <a:ext cx="9144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RMI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1" name=""/>
          <p:cNvSpPr/>
          <p:nvPr/>
        </p:nvSpPr>
        <p:spPr>
          <a:xfrm>
            <a:off x="4194000" y="480060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495680" y="304812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biekt a Kompon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600200" y="2743200"/>
            <a:ext cx="1295280" cy="1143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79760" y="3124080"/>
            <a:ext cx="124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peracj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676520" y="2743200"/>
            <a:ext cx="133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peracj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679760" y="3505320"/>
            <a:ext cx="121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peracja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675800" y="1981080"/>
            <a:ext cx="117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Interfej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733920" y="1676520"/>
            <a:ext cx="3003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Implementac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    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operacj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95480" y="3124080"/>
            <a:ext cx="762120" cy="228600"/>
          </a:xfrm>
          <a:prstGeom prst="leftRightArrow">
            <a:avLst>
              <a:gd name="adj1" fmla="val 50000"/>
              <a:gd name="adj2" fmla="val 66368"/>
            </a:avLst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657600" y="2438280"/>
            <a:ext cx="1905120" cy="16765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629400" y="3446640"/>
            <a:ext cx="838080" cy="23328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50000">
                <a:srgbClr val="3333cc"/>
              </a:gs>
              <a:gs pos="100000">
                <a:srgbClr val="17175e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781680" y="3089160"/>
            <a:ext cx="457200" cy="9540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50000">
                <a:srgbClr val="3333cc"/>
              </a:gs>
              <a:gs pos="100000">
                <a:srgbClr val="17175e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705720" y="2889360"/>
            <a:ext cx="75960" cy="46656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50000">
                <a:srgbClr val="3333cc"/>
              </a:gs>
              <a:gs pos="100000">
                <a:srgbClr val="17175e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781680" y="2784600"/>
            <a:ext cx="609840" cy="31104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10280" y="2895480"/>
            <a:ext cx="152640" cy="1555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3276720"/>
            <a:ext cx="1143000" cy="152280"/>
          </a:xfrm>
          <a:prstGeom prst="leftRightArrow">
            <a:avLst>
              <a:gd name="adj1" fmla="val 50000"/>
              <a:gd name="adj2" fmla="val 149423"/>
            </a:avLst>
          </a:prstGeom>
          <a:solidFill>
            <a:srgbClr val="00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629400" y="2438280"/>
            <a:ext cx="1295280" cy="144792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50000">
                <a:srgbClr val="3333cc"/>
              </a:gs>
              <a:gs pos="100000">
                <a:srgbClr val="17175e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ny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600200" y="4724280"/>
            <a:ext cx="1371600" cy="533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Introspecj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rot="19120800">
            <a:off x="2437920" y="3962160"/>
            <a:ext cx="1447920" cy="304560"/>
          </a:xfrm>
          <a:prstGeom prst="leftRightArrow">
            <a:avLst>
              <a:gd name="adj1" fmla="val 50000"/>
              <a:gd name="adj2" fmla="val 94642"/>
            </a:avLst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09880" y="3200400"/>
            <a:ext cx="457200" cy="380880"/>
          </a:xfrm>
          <a:prstGeom prst="ellipse">
            <a:avLst/>
          </a:prstGeom>
          <a:gradFill rotWithShape="0">
            <a:gsLst>
              <a:gs pos="0">
                <a:srgbClr val="ccccff"/>
              </a:gs>
              <a:gs pos="100000">
                <a:srgbClr val="cc00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038480" y="3581280"/>
            <a:ext cx="457200" cy="381240"/>
          </a:xfrm>
          <a:prstGeom prst="ellipse">
            <a:avLst/>
          </a:prstGeom>
          <a:gradFill rotWithShape="0">
            <a:gsLst>
              <a:gs pos="0">
                <a:srgbClr val="ccccff"/>
              </a:gs>
              <a:gs pos="100000">
                <a:srgbClr val="cc00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3581280"/>
            <a:ext cx="457200" cy="381240"/>
          </a:xfrm>
          <a:prstGeom prst="ellipse">
            <a:avLst/>
          </a:prstGeom>
          <a:gradFill rotWithShape="0">
            <a:gsLst>
              <a:gs pos="0">
                <a:srgbClr val="ccccff"/>
              </a:gs>
              <a:gs pos="100000">
                <a:srgbClr val="cc00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876920" y="3200400"/>
            <a:ext cx="457200" cy="380880"/>
          </a:xfrm>
          <a:prstGeom prst="ellipse">
            <a:avLst/>
          </a:prstGeom>
          <a:gradFill rotWithShape="0">
            <a:gsLst>
              <a:gs pos="0">
                <a:srgbClr val="ccccff"/>
              </a:gs>
              <a:gs pos="100000">
                <a:srgbClr val="cc00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971800" y="5410080"/>
            <a:ext cx="1371600" cy="5335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724280" y="5410080"/>
            <a:ext cx="1371600" cy="533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Bezpie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czeństw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324480" y="4572000"/>
            <a:ext cx="1371600" cy="533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c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łączen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rot="12866400">
            <a:off x="5105160" y="3962160"/>
            <a:ext cx="1447560" cy="152280"/>
          </a:xfrm>
          <a:prstGeom prst="leftRightArrow">
            <a:avLst>
              <a:gd name="adj1" fmla="val 50000"/>
              <a:gd name="adj2" fmla="val 189238"/>
            </a:avLst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7826600">
            <a:off x="3127320" y="4600800"/>
            <a:ext cx="1295280" cy="304920"/>
          </a:xfrm>
          <a:prstGeom prst="leftRightArrow">
            <a:avLst>
              <a:gd name="adj1" fmla="val 50000"/>
              <a:gd name="adj2" fmla="val 84565"/>
            </a:avLst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rot="14271000">
            <a:off x="4533840" y="4609440"/>
            <a:ext cx="1447560" cy="152640"/>
          </a:xfrm>
          <a:prstGeom prst="leftRightArrow">
            <a:avLst>
              <a:gd name="adj1" fmla="val 50000"/>
              <a:gd name="adj2" fmla="val 188792"/>
            </a:avLst>
          </a:prstGeom>
          <a:solidFill>
            <a:srgbClr val="99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032280" y="5421240"/>
            <a:ext cx="136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Autokonf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914400" y="2057400"/>
            <a:ext cx="2438280" cy="17524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066680" y="2743200"/>
            <a:ext cx="1295640" cy="99072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486400" y="2286000"/>
            <a:ext cx="2438280" cy="1600200"/>
          </a:xfrm>
          <a:prstGeom prst="roundRect">
            <a:avLst>
              <a:gd name="adj" fmla="val 16667"/>
            </a:avLst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62120" y="5029200"/>
            <a:ext cx="7238880" cy="144792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rchitektura O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685800" y="4038480"/>
            <a:ext cx="7772400" cy="76212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50000">
                <a:srgbClr val="cc99ff"/>
              </a:gs>
              <a:gs pos="100000">
                <a:srgbClr val="006699"/>
              </a:gs>
            </a:gsLst>
            <a:lin ang="54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828800" y="3048120"/>
            <a:ext cx="533520" cy="5331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19920" y="3048120"/>
            <a:ext cx="533160" cy="5331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086600" y="5334120"/>
            <a:ext cx="533520" cy="5331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143000" y="5334120"/>
            <a:ext cx="533520" cy="5331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752480" y="5334120"/>
            <a:ext cx="533520" cy="5331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477120" y="5334120"/>
            <a:ext cx="533160" cy="5331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43000" y="3048120"/>
            <a:ext cx="533520" cy="5331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172200" y="3581280"/>
            <a:ext cx="304920" cy="533520"/>
          </a:xfrm>
          <a:prstGeom prst="upArrow">
            <a:avLst>
              <a:gd name="adj1" fmla="val 50000"/>
              <a:gd name="adj2" fmla="val 43743"/>
            </a:avLst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010280" y="3048120"/>
            <a:ext cx="533520" cy="5331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162920" y="3581280"/>
            <a:ext cx="304560" cy="533520"/>
          </a:xfrm>
          <a:prstGeom prst="upArrow">
            <a:avLst>
              <a:gd name="adj1" fmla="val 50000"/>
              <a:gd name="adj2" fmla="val 43794"/>
            </a:avLst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666880" y="3048120"/>
            <a:ext cx="609840" cy="5331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295280" y="3581280"/>
            <a:ext cx="304920" cy="533520"/>
          </a:xfrm>
          <a:prstGeom prst="upArrow">
            <a:avLst>
              <a:gd name="adj1" fmla="val 50000"/>
              <a:gd name="adj2" fmla="val 43743"/>
            </a:avLst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905120" y="3581280"/>
            <a:ext cx="304560" cy="533520"/>
          </a:xfrm>
          <a:prstGeom prst="upArrow">
            <a:avLst>
              <a:gd name="adj1" fmla="val 50000"/>
              <a:gd name="adj2" fmla="val 43794"/>
            </a:avLst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819520" y="3581280"/>
            <a:ext cx="304560" cy="533520"/>
          </a:xfrm>
          <a:prstGeom prst="upArrow">
            <a:avLst>
              <a:gd name="adj1" fmla="val 50000"/>
              <a:gd name="adj2" fmla="val 43794"/>
            </a:avLst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rot="10815000">
            <a:off x="7238520" y="4800600"/>
            <a:ext cx="304920" cy="533520"/>
          </a:xfrm>
          <a:prstGeom prst="upArrow">
            <a:avLst>
              <a:gd name="adj1" fmla="val 50000"/>
              <a:gd name="adj2" fmla="val 43743"/>
            </a:avLst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rot="10815000">
            <a:off x="1294920" y="4800600"/>
            <a:ext cx="304920" cy="533520"/>
          </a:xfrm>
          <a:prstGeom prst="upArrow">
            <a:avLst>
              <a:gd name="adj1" fmla="val 50000"/>
              <a:gd name="adj2" fmla="val 43743"/>
            </a:avLst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rot="10815000">
            <a:off x="1905120" y="4800600"/>
            <a:ext cx="304560" cy="533520"/>
          </a:xfrm>
          <a:prstGeom prst="upArrow">
            <a:avLst>
              <a:gd name="adj1" fmla="val 50000"/>
              <a:gd name="adj2" fmla="val 43794"/>
            </a:avLst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15000">
            <a:off x="6552720" y="4800600"/>
            <a:ext cx="304920" cy="533520"/>
          </a:xfrm>
          <a:prstGeom prst="upArrow">
            <a:avLst>
              <a:gd name="adj1" fmla="val 50000"/>
              <a:gd name="adj2" fmla="val 43743"/>
            </a:avLst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438280" y="5334120"/>
            <a:ext cx="533520" cy="5331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rot="10815000">
            <a:off x="2590920" y="4800600"/>
            <a:ext cx="304560" cy="533520"/>
          </a:xfrm>
          <a:prstGeom prst="upArrow">
            <a:avLst>
              <a:gd name="adj1" fmla="val 50000"/>
              <a:gd name="adj2" fmla="val 43794"/>
            </a:avLst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041000" y="4140360"/>
            <a:ext cx="116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 R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821320" y="6019920"/>
            <a:ext cx="277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USLUGI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SYSTEMOWE CORB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943600" y="2362320"/>
            <a:ext cx="201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cc"/>
                </a:solidFill>
                <a:latin typeface="Arial"/>
              </a:rPr>
              <a:t>STANDARDOW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cc"/>
                </a:solidFill>
                <a:latin typeface="Arial"/>
              </a:rPr>
              <a:t>    </a:t>
            </a:r>
            <a:r>
              <a:rPr b="1" lang="pl-PL" sz="1400" spc="-1" strike="noStrike">
                <a:solidFill>
                  <a:srgbClr val="0000cc"/>
                </a:solidFill>
                <a:latin typeface="Arial"/>
              </a:rPr>
              <a:t>APLIKACJ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295280" y="1981080"/>
            <a:ext cx="196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   </a:t>
            </a: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APLIKACJ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UŻYTKOWNIK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3123720" y="2743200"/>
            <a:ext cx="8384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2362320" y="2285640"/>
            <a:ext cx="1600200" cy="60948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039920" y="2152800"/>
            <a:ext cx="85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026240" y="257508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biek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791320" y="5334120"/>
            <a:ext cx="533160" cy="5331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rot="10815000">
            <a:off x="5866920" y="4800600"/>
            <a:ext cx="304920" cy="533520"/>
          </a:xfrm>
          <a:prstGeom prst="upArrow">
            <a:avLst>
              <a:gd name="adj1" fmla="val 50000"/>
              <a:gd name="adj2" fmla="val 43743"/>
            </a:avLst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71600" y="2971800"/>
            <a:ext cx="0" cy="83808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809880" y="3048120"/>
            <a:ext cx="0" cy="76176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715000" y="3048120"/>
            <a:ext cx="0" cy="76176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209680" y="3048120"/>
            <a:ext cx="0" cy="76176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048120" y="3048120"/>
            <a:ext cx="0" cy="76176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553080" y="3048120"/>
            <a:ext cx="0" cy="76176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467480" y="3048120"/>
            <a:ext cx="0" cy="76176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153280" y="3048120"/>
            <a:ext cx="0" cy="76176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Komunikacja pomiędzy obiekta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838080" y="4648320"/>
            <a:ext cx="7772400" cy="761760"/>
          </a:xfrm>
          <a:prstGeom prst="rect">
            <a:avLst/>
          </a:prstGeom>
          <a:gradFill rotWithShape="0">
            <a:gsLst>
              <a:gs pos="0">
                <a:srgbClr val="006699"/>
              </a:gs>
              <a:gs pos="50000">
                <a:srgbClr val="cc99ff"/>
              </a:gs>
              <a:gs pos="100000">
                <a:srgbClr val="006699"/>
              </a:gs>
            </a:gsLst>
            <a:lin ang="5400000"/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05120" y="2514600"/>
            <a:ext cx="533160" cy="5335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+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324480" y="2514600"/>
            <a:ext cx="533520" cy="5335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+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505320" y="2514600"/>
            <a:ext cx="609480" cy="5335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Cob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10080" y="2514600"/>
            <a:ext cx="533520" cy="5335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143000" y="2514600"/>
            <a:ext cx="533520" cy="5335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629400" y="4267080"/>
            <a:ext cx="304920" cy="457200"/>
          </a:xfrm>
          <a:prstGeom prst="upArrow">
            <a:avLst>
              <a:gd name="adj1" fmla="val 50000"/>
              <a:gd name="adj2" fmla="val 37485"/>
            </a:avLst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162920" y="2514600"/>
            <a:ext cx="533160" cy="5335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Ja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743200" y="2514600"/>
            <a:ext cx="609480" cy="5335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Jav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286000" y="4267080"/>
            <a:ext cx="304920" cy="457200"/>
          </a:xfrm>
          <a:prstGeom prst="upArrow">
            <a:avLst>
              <a:gd name="adj1" fmla="val 50000"/>
              <a:gd name="adj2" fmla="val 37485"/>
            </a:avLst>
          </a:prstGeom>
          <a:solidFill>
            <a:srgbClr val="00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066680" y="3962520"/>
            <a:ext cx="2819520" cy="3045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Kl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181480" y="3962520"/>
            <a:ext cx="2971800" cy="304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r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66680" y="3352680"/>
            <a:ext cx="533520" cy="2286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D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924680" y="2514600"/>
            <a:ext cx="533520" cy="5335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Times New Roman"/>
              </a:rPr>
              <a:t>Cob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3352680"/>
            <a:ext cx="533160" cy="2286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3352680"/>
            <a:ext cx="533160" cy="2286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334120" y="3352680"/>
            <a:ext cx="533160" cy="22860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743200" y="3352680"/>
            <a:ext cx="533520" cy="2286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248520" y="3352680"/>
            <a:ext cx="533160" cy="22860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086600" y="3352680"/>
            <a:ext cx="533520" cy="22860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848720" y="3352680"/>
            <a:ext cx="533160" cy="22860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336280" y="3276720"/>
            <a:ext cx="50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D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745360" y="3276720"/>
            <a:ext cx="50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D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507480" y="3276720"/>
            <a:ext cx="50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D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907280" y="3276720"/>
            <a:ext cx="50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D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850880" y="3276720"/>
            <a:ext cx="50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D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088760" y="3276720"/>
            <a:ext cx="50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D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250680" y="3276720"/>
            <a:ext cx="50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D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099200" y="4809960"/>
            <a:ext cx="132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I  I  O  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438280" y="4267080"/>
            <a:ext cx="0" cy="76212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438280" y="5029200"/>
            <a:ext cx="434340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6781680" y="4266720"/>
            <a:ext cx="0" cy="6858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429000" y="4876920"/>
            <a:ext cx="1219320" cy="22860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1752480" y="2819520"/>
            <a:ext cx="1143000" cy="9903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odele organizacji system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1752480" y="2666880"/>
            <a:ext cx="1143000" cy="60984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752480" y="4419720"/>
            <a:ext cx="1143000" cy="9903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791320" y="2666880"/>
            <a:ext cx="1143000" cy="60984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791320" y="3886200"/>
            <a:ext cx="1143000" cy="99072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752480" y="4419720"/>
            <a:ext cx="1143000" cy="990360"/>
          </a:xfrm>
          <a:prstGeom prst="ellipse">
            <a:avLst/>
          </a:prstGeom>
          <a:gradFill rotWithShape="0">
            <a:gsLst>
              <a:gs pos="0">
                <a:srgbClr val="ffff00"/>
              </a:gs>
              <a:gs pos="100000">
                <a:srgbClr val="ff993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752480" y="4952880"/>
            <a:ext cx="1143000" cy="76212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50000">
                <a:srgbClr val="3333cc"/>
              </a:gs>
              <a:gs pos="100000">
                <a:srgbClr val="17175e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791320" y="5486400"/>
            <a:ext cx="1143000" cy="762120"/>
          </a:xfrm>
          <a:prstGeom prst="rect">
            <a:avLst/>
          </a:prstGeom>
          <a:gradFill rotWithShape="0">
            <a:gsLst>
              <a:gs pos="0">
                <a:srgbClr val="17175e"/>
              </a:gs>
              <a:gs pos="50000">
                <a:srgbClr val="3333cc"/>
              </a:gs>
              <a:gs pos="100000">
                <a:srgbClr val="17175e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248520" y="4876920"/>
            <a:ext cx="228600" cy="609480"/>
          </a:xfrm>
          <a:prstGeom prst="upDownArrow">
            <a:avLst>
              <a:gd name="adj1" fmla="val 50000"/>
              <a:gd name="adj2" fmla="val 53076"/>
            </a:avLst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209680" y="3809880"/>
            <a:ext cx="228600" cy="609840"/>
          </a:xfrm>
          <a:prstGeom prst="upDownArrow">
            <a:avLst>
              <a:gd name="adj1" fmla="val 50000"/>
              <a:gd name="adj2" fmla="val 53107"/>
            </a:avLst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248520" y="3276720"/>
            <a:ext cx="228600" cy="609480"/>
          </a:xfrm>
          <a:prstGeom prst="upDownArrow">
            <a:avLst>
              <a:gd name="adj1" fmla="val 50000"/>
              <a:gd name="adj2" fmla="val 53076"/>
            </a:avLst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295640" y="1827360"/>
            <a:ext cx="248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wupoziomo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410080" y="1827360"/>
            <a:ext cx="241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rójpoziomow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222320" y="2678040"/>
            <a:ext cx="1695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lang="pl-PL" sz="2000" spc="-1" strike="noStrike">
                <a:solidFill>
                  <a:srgbClr val="3333cc"/>
                </a:solidFill>
                <a:latin typeface="Arial"/>
              </a:rPr>
              <a:t>Interfej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3333cc"/>
                </a:solidFill>
                <a:latin typeface="Arial"/>
              </a:rPr>
              <a:t>użytkownik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91520" y="3932280"/>
            <a:ext cx="1183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Ser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aplikacj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314840" y="5486400"/>
            <a:ext cx="1526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Da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Urządzen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829160" y="644688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St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020280" y="6446880"/>
            <a:ext cx="8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</a:rPr>
              <a:t>Now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c0c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685800" y="609480"/>
            <a:ext cx="6400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85800" y="685800"/>
            <a:ext cx="6858000" cy="914400"/>
          </a:xfrm>
          <a:prstGeom prst="rect">
            <a:avLst/>
          </a:prstGeom>
          <a:solidFill>
            <a:srgbClr val="80808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Konsekwencje modelu trójpoziomoweg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7524720" y="685800"/>
            <a:ext cx="924120" cy="92376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1447920" y="1905120"/>
            <a:ext cx="380880" cy="38088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3480" y="1905120"/>
            <a:ext cx="5197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Niezależność konstrukcji serw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plikacji od interfejsu użytkownik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447920" y="3048120"/>
            <a:ext cx="380880" cy="38088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364480" y="2971800"/>
            <a:ext cx="504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Niezależność konstrukcji serwe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aplikacji od interfejsu dostępu 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dany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495680" y="4038480"/>
            <a:ext cx="76212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666880" y="4876920"/>
            <a:ext cx="4800600" cy="1143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Możliwość standaryzacj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16640" y="6095880"/>
            <a:ext cx="430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cc"/>
                </a:solidFill>
                <a:latin typeface="Arial"/>
              </a:rPr>
              <a:t>Nowy poziom usług systemowy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9-06T15:23:20Z</dcterms:created>
  <dc:creator>K.Z.</dc:creator>
  <dc:description/>
  <dc:language>en-US</dc:language>
  <cp:lastModifiedBy>K.Z.</cp:lastModifiedBy>
  <cp:lastPrinted>1998-09-21T07:40:02Z</cp:lastPrinted>
  <dcterms:modified xsi:type="dcterms:W3CDTF">1998-11-29T15:14:48Z</dcterms:modified>
  <cp:revision>46</cp:revision>
  <dc:subject/>
  <dc:title>Bez tytułu slajdu</dc:title>
</cp:coreProperties>
</file>