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421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8377-EFC7-45F9-BB9D-15C6623B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559-D5D5-4971-B9A0-62CF7FE8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5BF-333A-4343-827D-AAC02F63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EEA-47E4-4EE1-9909-5881ED03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203-B6E4-465A-841D-AF9040D9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C2D-AEE2-4CBC-93B5-65037FC3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2F8-6C89-4C10-810F-0C10EB01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AB3-C560-4E16-8D90-98563F00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6E8-366E-40D7-A5EF-4AF807EB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FE5-2E8B-451A-A455-6956D91B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FE2-DCB4-469E-AA88-EC443F5D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FDD-35C2-43B1-9615-40EFCFD6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463F-BF99-4C4B-9788-F54CC243F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hyperlink" Target="C:\WINDOWS\rundll32.exe amovie.ocx,RunDll /play /close c:\home\bokun\sun\sun.mpg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SPM - Wirtualny System Plików Multimedialnych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7320" y="4937040"/>
            <a:ext cx="76420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gor BOKUN, Stanisław STRELNIK, Krzysztof ZIELIŃSK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atedra Informatyk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kademia Górniczo-Hutni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Podstawowe opera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904040"/>
            <a:ext cx="746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pla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poczęcie transmisji wybranego filmu do wybranego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biorcy. Aby możliwa była transmisja, film musi być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mieszczony na video-serwer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tawienie nowego pliku MPEG do WSPM. Źródło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mienia MPEG podawane jako paramert op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ądanie przygotowania filmu do odtwarzania na określony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zień/godzin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worzenie odsyłacza do danego fil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sunięcie odsyłacza i ewentualne fizyczne usunięcie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il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cd, mkdi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peracje na drzewie katalog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lock, unloc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ablokowanie filmu na video-serwer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800" spc="-1" strike="noStrike">
                <a:solidFill>
                  <a:srgbClr val="ffffff"/>
                </a:solidFill>
                <a:latin typeface="Times New Roman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147760"/>
            <a:ext cx="7673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 realizację operacji odpowiedzialny jest moduł managera żąda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zapewnia optymalną dystrybucję dokumentów multimedialnych w przypadku występowania wielu video-serwer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uje listę żadań, starając się zapewnić realizację wszystkich zleconych zada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stnieje możliwość administracyjnej zmiany priorytetu poszczególnych film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żliwość wyboru funkcji prioryte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request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- liniowa funkcja prioryt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133720" y="1905120"/>
          <a:ext cx="479412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905120"/>
                    <a:ext cx="479412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request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- funkcja priorytetu arcus tan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33720" y="1905120"/>
          <a:ext cx="479412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905120"/>
                    <a:ext cx="479412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operacja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request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- skokowa funkcja prioryt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33720" y="1905120"/>
          <a:ext cx="479412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905120"/>
                    <a:ext cx="479412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ziałanie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2133720"/>
          <a:ext cx="3905280" cy="36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133720"/>
                    <a:ext cx="390528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2005200"/>
            <a:ext cx="6934320" cy="39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ystem przeszedł fazę implementacji. Wykonane zostały pierwsze testy, jednak niezbędne jest dokonanie obszernych testów celem ustalenia optymalnych parametrów pracy syste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ostały zaimplementowane pierwsze aplikacje w języku Java wykorzystające Java MediaFramework oraz WSP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osowanie technologii CORBA umożliwiło integrację wielu odmiennych środowisk programowania oraz protokołów sterowania urządzeniami. jak również ułatwiło realizację projektu przez niezależne grup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wają prace nad implementacją mechanizmów zwiększających bezpieczeństwo syste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5640" y="2361960"/>
            <a:ext cx="472428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łówne założenia proj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latforma sprzętow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rchitektura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dstawowe opera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ziałanie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 refera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łówne założenia proj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019600"/>
            <a:ext cx="707364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worzenie jednolitej z punktu widzenia użytkownika przestrzeni plików multimedial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utomatyczne zarządzanie dokumentami przechowywanymi w system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a dużych ilości dokumentów multimedialnych - kilkaset pełnometrażowych film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kalowalność oraz możliwość adaptacji systemu do nowych rozwiązań sprzęt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interfejs umożliwiający tworzenie aplikacji-klientów w wizualnych środowiskach programowania, takich jak n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Symantec Visual C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2160" y="1676520"/>
            <a:ext cx="351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Sun Media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mc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1936800" cy="1486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685800" y="4495320"/>
            <a:ext cx="70866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uły programowe wykorzystywane w proje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Content Manag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umożliwia wprowadzanie plików MPEG do multimedialnego systemu plików 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Stream Manag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umożliwia odtwarzanie przechowywanych plików multimedial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2209320"/>
            <a:ext cx="58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ardware, system operacyjny, system plików specjalizowany do zastosowań multimedial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cierz dyskowa o dużej pojemności - 50 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a plików w standardzie MPEG-1 oraz MPEG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terfejsy Ethernet 100 Mb, ATM, analogowy - telewizja kabl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latforma sprzętowa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1600" y="4648320"/>
            <a:ext cx="6361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1676520"/>
            <a:ext cx="5124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obot taśmowy ACL 26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cl2640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2381400" cy="4038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69000" y="2361600"/>
            <a:ext cx="439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ałkowita 2.64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pustowość biblioteki - 13.5 GB/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 niezależne napędy taś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64 taśm o pojemności 10 GB każ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ędkość transmisji pojedyncze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czytnika- 1.25 MB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 kasety - Compac Tape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952520"/>
            <a:ext cx="388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nterfejsy dostępu do bibliot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 u="sng">
                <a:solidFill>
                  <a:srgbClr val="00ff00"/>
                </a:solidFill>
                <a:uFillTx/>
                <a:latin typeface="Times New Roman"/>
              </a:rPr>
              <a:t>File Transfer Protocol (F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Network File System (N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latforma sprzętowa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160" y="2286000"/>
            <a:ext cx="2661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-Point 6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657240"/>
            <a:ext cx="7924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98280" indent="-98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rzętowy koder MPEG-1wyposażony w interfejs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resja w czasie rzeczywistym ze stałym opóźnieniem rzędu 1 s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sługiwane rozdzielczości: 352x288 (SIF) lub 176x144 (QS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42040" y="5105160"/>
            <a:ext cx="5220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nterfejs sterowania urządzen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Open Media Device Control Interface (OMD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ff00"/>
                </a:solidFill>
                <a:latin typeface="Times New Roman"/>
              </a:rPr>
              <a:t>Otoczka obiektowa CORBA na bazie OMD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1676520"/>
          <a:ext cx="3962520" cy="180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76520"/>
                    <a:ext cx="3962520" cy="180324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latforma sprzętowa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1676520"/>
            <a:ext cx="6485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onfiguracja sieci komputerowej wykorzystywanej do testów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295280" y="2971800"/>
          <a:ext cx="6512040" cy="30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971800"/>
                    <a:ext cx="651204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371600" y="1981080"/>
          <a:ext cx="5904000" cy="398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81080"/>
                    <a:ext cx="5904000" cy="39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Architektura głównego serwera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19320" y="4572000"/>
            <a:ext cx="636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219320" y="2362320"/>
          <a:ext cx="6659280" cy="290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362320"/>
                    <a:ext cx="665928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>AGH</dc:creator>
  <dc:description/>
  <dc:language>en-US</dc:language>
  <cp:lastModifiedBy>K.Z.</cp:lastModifiedBy>
  <cp:lastPrinted>1998-03-16T08:12:04Z</cp:lastPrinted>
  <dcterms:modified xsi:type="dcterms:W3CDTF">1998-09-18T18:33:17Z</dcterms:modified>
  <cp:revision>81</cp:revision>
  <dc:subject/>
  <dc:title>Narzêdzie do testowania</dc:title>
</cp:coreProperties>
</file>