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A3B-9F10-40E9-8341-89F3EC2D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DEB-F49F-40A0-A432-EF056D91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29A-5AC4-4213-A079-C246294F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320-4E33-4890-B26C-51C6D65D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852-80C7-45DA-B4C4-3A3FCE4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A2F-5C30-43D5-B703-B022EDCC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653-B98B-4EA0-A7EB-3533CEC1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720-DF3A-48D6-8229-3EE69C21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001-2A93-44DC-8657-596ECAFD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98F-B283-474B-8234-2CBA627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86F-1689-4172-B2A8-F1CBCD2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120-802C-489C-AD5F-57CD7A2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A4EE-B422-4766-9536-D18616930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438280"/>
            <a:ext cx="7086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ecjalizowane Aplikacj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 Systemie UN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gor Bokun 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5880" y="3352680"/>
            <a:ext cx="2362320" cy="10670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zas reakcji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143000" y="4648320"/>
            <a:ext cx="251460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4648320"/>
            <a:ext cx="236196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5200" y="3505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296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419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4038480"/>
            <a:ext cx="50292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038480"/>
            <a:ext cx="91440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4038480"/>
            <a:ext cx="8380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51200" y="4834080"/>
            <a:ext cx="118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 syst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7160" y="480060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ystem sa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tore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3800" y="4800600"/>
            <a:ext cx="1366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iver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ou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end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wak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5040" y="4800600"/>
            <a:ext cx="123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from  inter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5080" y="4800600"/>
            <a:ext cx="119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14840" y="48006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5440" y="37670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09360" y="34624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15920" y="342900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61040" y="4376880"/>
            <a:ext cx="137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840" y="434340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rupt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7859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066680" y="4800600"/>
            <a:ext cx="52578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ełączanie kontek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143000" y="3733920"/>
            <a:ext cx="350532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7339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96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209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2438280"/>
            <a:ext cx="693432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43000" y="3200400"/>
            <a:ext cx="53341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3733920"/>
            <a:ext cx="152388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2680" y="48340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0" y="3809880"/>
            <a:ext cx="1197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run high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7640" y="38862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alc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99680" y="2819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1360" y="2666880"/>
            <a:ext cx="71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42120" y="2090880"/>
            <a:ext cx="209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pplication respons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75960" y="17859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56560" y="178596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o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9160" y="3809880"/>
            <a:ext cx="240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ow-priority process 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sources or provide input 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igher priority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37560" y="50292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Dispatch latency                 około 1 mse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17760" y="5622840"/>
            <a:ext cx="48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Przełączanie wątku             kilkaset razy szybs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5105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 pamięc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140120" y="2498760"/>
            <a:ext cx="667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agwarantowanie ciągłego obszaru obszaru pamięci dla wyko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u w pamięci operacyjnej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96960" y="350532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Memory  Locking              zapobiega wymianom s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3505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66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30800" y="4114800"/>
            <a:ext cx="2009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urier New"/>
              </a:rPr>
              <a:t>munlockal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c0c0"/>
                </a:solidFill>
                <a:latin typeface="Times New Roman"/>
              </a:rPr>
              <a:t>Sun MediaCenter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86200" y="3124080"/>
            <a:ext cx="4114800" cy="2057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3200400"/>
            <a:ext cx="1752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S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419720"/>
            <a:ext cx="17524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M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2900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724280"/>
            <a:ext cx="1143000" cy="30492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31240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4114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64680" y="3276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edia Stre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2880" y="441972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 Mn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5400" y="3809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0" y="3581280"/>
            <a:ext cx="96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ow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3429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41148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77320" y="43434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45720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4800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36576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886200"/>
            <a:ext cx="6858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4495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4640" y="41148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88400" y="5370480"/>
            <a:ext cx="10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0" name="smc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5562360" cy="365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61" name=""/>
          <p:cNvSpPr/>
          <p:nvPr/>
        </p:nvSpPr>
        <p:spPr>
          <a:xfrm>
            <a:off x="687600" y="5867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4840" y="5867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 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96080" y="281952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62920" y="3124080"/>
            <a:ext cx="76176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19320" y="281952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3124080"/>
            <a:ext cx="76212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429000" y="23623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590920"/>
            <a:ext cx="1143000" cy="53316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28954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>
            <a:stCxn id="370" idx="3"/>
            <a:endCxn id="371" idx="1"/>
          </p:cNvCxnSpPr>
          <p:nvPr/>
        </p:nvCxnSpPr>
        <p:spPr>
          <a:xfrm>
            <a:off x="5562720" y="2857320"/>
            <a:ext cx="129600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1523880" y="3657600"/>
            <a:ext cx="655344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45000" y="38098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16040" y="2362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95288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518148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5257800"/>
            <a:ext cx="137160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5486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7" idx="3"/>
            <a:endCxn id="378" idx="1"/>
          </p:cNvCxnSpPr>
          <p:nvPr/>
        </p:nvCxnSpPr>
        <p:spPr>
          <a:xfrm>
            <a:off x="4952880" y="5447880"/>
            <a:ext cx="6105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1906560" y="49528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434340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96080" y="579132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Set-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781320" y="4648320"/>
            <a:ext cx="83844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5410080"/>
            <a:ext cx="914400" cy="685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7280" y="186516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666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772400" y="4343400"/>
            <a:ext cx="60948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4343400"/>
            <a:ext cx="609840" cy="83808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648320"/>
            <a:ext cx="762120" cy="53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enariusze użycia S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505320" y="3886200"/>
            <a:ext cx="21333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cc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44197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6" idx="3"/>
            <a:endCxn id="397" idx="1"/>
          </p:cNvCxnSpPr>
          <p:nvPr/>
        </p:nvCxnSpPr>
        <p:spPr>
          <a:xfrm>
            <a:off x="5638320" y="4381200"/>
            <a:ext cx="1296360" cy="1080"/>
          </a:xfrm>
          <a:prstGeom prst="straightConnector1">
            <a:avLst/>
          </a:prstGeom>
          <a:ln w="76320">
            <a:solidFill>
              <a:srgbClr val="000099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1600200" y="5181480"/>
            <a:ext cx="65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21320" y="533412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PEG-1 or MPEG-2 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63760" y="35812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53240" y="33894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1911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2438280"/>
            <a:ext cx="121932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pres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895480"/>
            <a:ext cx="106668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160" y="47242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00" y="58276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Wizualizacja 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późnieniem  2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876920" y="289548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19720" y="224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pamiętan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formac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666880" y="2895480"/>
            <a:ext cx="3657600" cy="2362320"/>
          </a:xfrm>
          <a:prstGeom prst="irregularSeal2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 na żąd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352680" y="2133720"/>
            <a:ext cx="2133720" cy="99036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50292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95288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5791320"/>
            <a:ext cx="1371600" cy="48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114800"/>
            <a:ext cx="1371600" cy="48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209320" y="3124080"/>
            <a:ext cx="2057400" cy="1143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895480" y="3124080"/>
            <a:ext cx="1447920" cy="1676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3124080"/>
            <a:ext cx="75960" cy="251460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3124080"/>
            <a:ext cx="1600200" cy="1752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124080"/>
            <a:ext cx="2286000" cy="1219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2720" y="300816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o 50 strumi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30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pecjalizowane zastosowanie systemu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762120" y="25909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2514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Wykorzystanie systemu Linux do realizacji modułu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poller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systemu Active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Aplikacja </a:t>
            </a:r>
            <a:r>
              <a:rPr b="1" i="1" lang="pl-PL" sz="2400" spc="-1" strike="noStrike">
                <a:solidFill>
                  <a:srgbClr val="3333cc"/>
                </a:solidFill>
                <a:latin typeface="Arial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42900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48006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4114800"/>
            <a:ext cx="38088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114800"/>
            <a:ext cx="380880" cy="304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51040" y="403848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LinuxPiccolo - specjalizowana wersja syste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4724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Systemy multimedialne wrażliwe na lokalizację użytkowni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1981080"/>
            <a:ext cx="38124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6040" y="59436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su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396252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960" y="487692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a Abng-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640" y="3048120"/>
            <a:ext cx="526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Aplikacje RT w systemie SOLARI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UN MEDIA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04812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487692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381240" cy="38124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7920" y="3962520"/>
            <a:ext cx="55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pecjalizowane aplikacje w syste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40800" y="2590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brane aspekty 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5320" y="541008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 Linux Pic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9000" y="19810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prowad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85800" y="215424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 Active Badge został zaprojektowany w Olivetti &amp; Oracle Research Laboratory (ORL) w Cambridge. Celem projektu było stworzenie infrastruktury sprzętowej oraz programowej, umożliwiającej realizację aplikacji wrażliwych na lokalizację osób i przedmiot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ykładowe zastosowania system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88620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3809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otwieranie drzwi w momencie, gdy osoba uprawniona do wejścia do danego pomieszczenia zbliży się do drzw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449568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3000" y="44197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yczne sterowanie oświetleniem na podstawie informacji o obecności osób w pomieszczeni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228600" cy="228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952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eleporting komputerowego środowiska pracy. Przejście osoby do innego pomieszczenia może spowodować przeniesienie środowiska graficznego na najbliższy k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5867280"/>
            <a:ext cx="228600" cy="2286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teligentne rutowanie połączeń telefoni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 sprzętowe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58" name="badge" descr=""/>
          <p:cNvPicPr/>
          <p:nvPr/>
        </p:nvPicPr>
        <p:blipFill>
          <a:blip r:embed="rId2"/>
          <a:srcRect l="56272" t="0" r="0" b="9129"/>
          <a:stretch/>
        </p:blipFill>
        <p:spPr>
          <a:xfrm>
            <a:off x="685800" y="1828800"/>
            <a:ext cx="14367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"/>
          <p:cNvSpPr/>
          <p:nvPr/>
        </p:nvSpPr>
        <p:spPr>
          <a:xfrm>
            <a:off x="2209680" y="1981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ywne plakietki noszone przez użytkowników systemu, bądź przytwierdzone do sprzę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sensor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4494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1" name=""/>
          <p:cNvSpPr/>
          <p:nvPr/>
        </p:nvSpPr>
        <p:spPr>
          <a:xfrm>
            <a:off x="457200" y="5029200"/>
            <a:ext cx="54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y rozmieszczone w pomieszczen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bierające sygnały od plakietek. Komunikacja odbywa się za pośrednictwem podczerwie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 Active Badge nex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69960" y="2093760"/>
            <a:ext cx="8093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ystem Active Badge, który powstał na początku lat dziewięćdziesiątych oparty jest o środowisko programowania rozproszonego ANSAWare. Biorąc pod uwagę rozwój w dziedzinie systemów rozproszonych, a w szczególności wprowadzenie i rozpowszechnienie standardu CORBA, zaistniała konieczność zaprojektowania nowoczesnego następcy systemu Active Ba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4267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99"/>
                </a:solidFill>
                <a:latin typeface="Arial"/>
              </a:rPr>
              <a:t>Active Badge next generation (ABng) jest rozproszonym, obiektowym systemem opartym o nowoczesną architekturę CORBA, w którym dużą uwagę skupiono na zagadnieniach skalowalności oraz elastycznoś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uł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"/>
          <p:cNvGraphicFramePr/>
          <p:nvPr/>
        </p:nvGraphicFramePr>
        <p:xfrm>
          <a:off x="2666880" y="2971800"/>
          <a:ext cx="3562560" cy="352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71800"/>
                    <a:ext cx="3562560" cy="35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>
            <a:off x="685800" y="1752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Jednym z elementów systemu Active Badge next generation jest ABng p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oller.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i on funkcje warstwy pośredniczącej pomiędzy sensorami a pozostałymi obiektami systemu. Jako platformę systemową do implementacji modułu wybrano system Lin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Linux na platformie PC/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09480" y="1905120"/>
            <a:ext cx="81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chitektura PC/104 została opracowana w 1992 roku w odpowiedzi na rosnące zapotrzebowanie na rozwiązanie zgodne ze standardową architekturą PC, dostosowane do zastosowań w tzw. systemach wbudowanych (embedd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32767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187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dstawowe różnice pomiędzy urządzeniami PC/104 a tradycyjnymi P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mniejszone wymiary (3.6”x3.8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ewielki pobór mocy (1-2 W na modu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187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y standard złącza magistralowego, zapewniający większą niezawodność połączeń oraz możliwość łączenia modułów w 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487692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systemu operacyjnego Linux na komputerach opartych o architekturę PC/104 nie przysparza większych problemów. Ze względu na dostępność kodu źródłowego systemu oraz aplikacji, Linux stanowi bardzo elastyczną, dojrzałą oraz łatwą w rozbudowie platformę dla systemów typu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yb pracy z wykorzystaniem Sieciowego Systemu Plików (N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2" name=""/>
          <p:cNvGraphicFramePr/>
          <p:nvPr/>
        </p:nvGraphicFramePr>
        <p:xfrm>
          <a:off x="1600200" y="2590920"/>
          <a:ext cx="59436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590920"/>
                    <a:ext cx="59436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ykorzystanie dysków typu </a:t>
            </a:r>
            <a:r>
              <a:rPr b="1" i="1" lang="pl-PL" sz="2800" spc="-1" strike="noStrike">
                <a:solidFill>
                  <a:srgbClr val="ffffff"/>
                </a:solidFill>
                <a:latin typeface="Times New Roman"/>
              </a:rPr>
              <a:t>Fl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87" name="doc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2571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8" name=""/>
          <p:cNvSpPr/>
          <p:nvPr/>
        </p:nvSpPr>
        <p:spPr>
          <a:xfrm>
            <a:off x="669960" y="186516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rzystanie NFS jest wygodne w początkowej fazie rozwoju systemu, kiedy występuje częsta aktualizacja plików (np. wskutek rekompilacji programu). Docelowo jednak urządzenie powinno być całkowicie niezależne od zewnętrznych serwis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1760" y="3160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mys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342900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mieścić obraz jądra systemu oraz root filesystem w pamięci Flash. W przypadku gdy istotna jest miniaturyzacja urządzenia, DiskOnChip firmy M-Systems wydaje się być optymalnym rozwiązan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7240" y="4952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zwan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981680"/>
            <a:ext cx="65689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Ze względu na stosunkowo wysoką cenę dysków typu Flash należy zmodyfikować system Linux, by rozmiar jądra oraz systemu plików, wraz z aplikacjami nie przekroczył 6-8 MB -&gt;</a:t>
            </a:r>
            <a:r>
              <a:rPr b="1" i="1" lang="pl-PL" sz="2000" spc="-1" strike="noStrike">
                <a:solidFill>
                  <a:srgbClr val="000099"/>
                </a:solidFill>
                <a:latin typeface="Arial"/>
              </a:rPr>
              <a:t> LinuxPiccolo</a:t>
            </a: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80880" y="60958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* w sierpniu 1998 firma M-Systems wprowadziła to beta testów sterowniki DiskOnChip dla systemu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1905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techniczn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2860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DiskOnChip dostarczany jest wyłącznie ze sterownikami dla systemów DOS, QNX oraz Windows 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9000" y="298620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wiązanie (tymczasowe?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35496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Uruchomić system pod kontrolą „systemu” DOS. Umieścić w pamięci RAM obraz systemu plików wraz z aplikacjami, a następnie wykorzystując program loadlin rozpocząć inicjalizację systemu Linux. Po otrzymaniu sterowania system Linux stworzy RAM dysk, w którym umieści wprowadzony obraz systemu plików „przekazany” z poziomu DOSa. Podstawową wadą tego rozwiązania jest tryb pracy read-only. W przypadku aplikacji ABng poller, ograniczenie to jest akceptowal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ces inicjalizacji systemu 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" name=""/>
          <p:cNvGraphicFramePr/>
          <p:nvPr/>
        </p:nvGraphicFramePr>
        <p:xfrm>
          <a:off x="1523880" y="1905120"/>
          <a:ext cx="5832720" cy="421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05120"/>
                    <a:ext cx="583272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za pośrednictwem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9" name=""/>
          <p:cNvGraphicFramePr/>
          <p:nvPr/>
        </p:nvGraphicFramePr>
        <p:xfrm>
          <a:off x="1371600" y="1981080"/>
          <a:ext cx="6624720" cy="35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81080"/>
                    <a:ext cx="6624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19320" y="5257800"/>
            <a:ext cx="24382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2133720"/>
            <a:ext cx="2286000" cy="2971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dencje rozwoju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3048120"/>
            <a:ext cx="1447560" cy="703440"/>
          </a:xfrm>
          <a:prstGeom prst="rect">
            <a:avLst/>
          </a:pr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ff"/>
                </a:solidFill>
                <a:latin typeface="Arial"/>
              </a:rPr>
              <a:t>UN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9400" y="538956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Java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064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3320" y="17524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57800" y="2093760"/>
            <a:ext cx="21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QNX Soft.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Radi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Mrcoware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hours S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C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New Mexico Te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Unv. O\of Ariz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133720"/>
            <a:ext cx="1524240" cy="2971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25520" y="2117880"/>
            <a:ext cx="10465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Q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iR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Lyn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OS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o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Chi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RT Lin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99"/>
                </a:solidFill>
                <a:latin typeface="Arial"/>
              </a:rPr>
              <a:t>x-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Urządzenie ABng p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4" name="poller1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043600" cy="38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iza przedstawionego rozwiąz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518" name="OldNew" descr=""/>
          <p:cNvPicPr/>
          <p:nvPr/>
        </p:nvPicPr>
        <p:blipFill>
          <a:blip r:embed="rId2"/>
          <a:stretch/>
        </p:blipFill>
        <p:spPr>
          <a:xfrm>
            <a:off x="4191120" y="2362320"/>
            <a:ext cx="4190760" cy="29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9" name=""/>
          <p:cNvSpPr/>
          <p:nvPr/>
        </p:nvSpPr>
        <p:spPr>
          <a:xfrm>
            <a:off x="609480" y="1752480"/>
            <a:ext cx="35211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naczne zmniejszenie gabarytów urządz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konsoli, konfiguracja urządzenia odbywa się poprzez sie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niejszy pobór mo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eliminowanie części mechanicznych - zwiększenie niezawodności syste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uża stabilność systemu Linux, dostępność dojrzałych implementacji standardu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ska c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Systemy multimedialne wrażliwe na lokal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69960" y="217008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łączenie rozwijanych w Katedrze Informatyki AGH systemów multimedialnych z infrastrukturą ABng daje możliwości prowadzenia badań nad nowym typem aplikacj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320040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99"/>
                </a:solidFill>
                <a:latin typeface="Arial"/>
              </a:rPr>
              <a:t>Aplikacji multimedialnych, wrażliwych na lokalizację użytkownikó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847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zykła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4456080"/>
            <a:ext cx="77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mieszczone w budynku kamery na bieżąco „śledzą” daną osobę, dostarczając za pośrednictwem sieci komputerowej obraz do centrum monitor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495680"/>
            <a:ext cx="228600" cy="228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540864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plikacje „follow me video”, w których sekwencje wideo  „podążają” za zmieniającym lokalizację użytkownik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5486400"/>
            <a:ext cx="228600" cy="228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Rozwój aplikacji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6680" y="2895480"/>
            <a:ext cx="1219320" cy="327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4343400"/>
            <a:ext cx="1219320" cy="18288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2578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33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5715000"/>
            <a:ext cx="106668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53360" y="1736640"/>
            <a:ext cx="14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Desktop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Entr.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Main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23120" y="2666880"/>
            <a:ext cx="16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RTOS Vend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et-top bo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creen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ternet 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ar Navi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5360" y="3870360"/>
            <a:ext cx="154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Prin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Hi-end P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7480" y="4937040"/>
            <a:ext cx="13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66"/>
                </a:solidFill>
                <a:latin typeface="Arial"/>
              </a:rPr>
              <a:t>Java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8160" y="43434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del Jav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87" name="architecture" descr=""/>
          <p:cNvPicPr/>
          <p:nvPr/>
        </p:nvPicPr>
        <p:blipFill>
          <a:blip r:embed="rId2"/>
          <a:stretch/>
        </p:blipFill>
        <p:spPr>
          <a:xfrm>
            <a:off x="1143000" y="1976400"/>
            <a:ext cx="6705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tawowe cechy 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3880" y="21337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960" y="21337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del wątk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895480"/>
            <a:ext cx="38124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9360" y="28195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riorytet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800" y="350532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łączanie kontek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5053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5029200"/>
            <a:ext cx="381240" cy="3808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343400"/>
            <a:ext cx="381240" cy="3808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6400" y="42670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arządzanie pamięci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5680" y="50292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ządzenia WE/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81080" y="60199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ar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wąt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4952880"/>
            <a:ext cx="60199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362320"/>
            <a:ext cx="68580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362320"/>
            <a:ext cx="83844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362320"/>
            <a:ext cx="1218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362320"/>
            <a:ext cx="144792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31240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800600"/>
            <a:ext cx="30456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800600"/>
            <a:ext cx="304920" cy="30492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74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373392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8098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962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38098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590920"/>
            <a:ext cx="117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51460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666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43828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43828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809880" y="26668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8" y="136"/>
                  <a:pt x="0" y="1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105520" y="2971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44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28951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7640" y="2666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43200" y="449532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733920" y="4495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96252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038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14440" y="4038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14800" y="403848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114440" y="403848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114440" y="403848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562720"/>
            <a:ext cx="304560" cy="304560"/>
          </a:xfrm>
          <a:prstGeom prst="pentagon">
            <a:avLst/>
          </a:prstGeom>
          <a:gradFill rotWithShape="0">
            <a:gsLst>
              <a:gs pos="0">
                <a:srgbClr val="3333cc"/>
              </a:gs>
              <a:gs pos="50000">
                <a:srgbClr val="0000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6172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3720" y="563868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6960" y="61722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 L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" y="51656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" y="3733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ff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4960" y="2335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oces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438280" y="1981080"/>
            <a:ext cx="1752840" cy="838440"/>
          </a:xfrm>
          <a:prstGeom prst="ellipse">
            <a:avLst/>
          </a:prstGeom>
          <a:gradFill rotWithShape="0">
            <a:gsLst>
              <a:gs pos="0">
                <a:srgbClr val="660066"/>
              </a:gs>
              <a:gs pos="50000">
                <a:srgbClr val="9933ff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350532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5029200"/>
            <a:ext cx="175248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34290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in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5029200"/>
            <a:ext cx="1752840" cy="838080"/>
          </a:xfrm>
          <a:prstGeom prst="ellipse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lee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6600"/>
                </a:solidFill>
                <a:latin typeface="Arial"/>
              </a:rPr>
              <a:t>sw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0532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1904760" cy="990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267080"/>
            <a:ext cx="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410080"/>
            <a:ext cx="1143000" cy="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1952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89680" y="26240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63080" y="445284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80560" y="35384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95288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k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3440" y="449568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6160" y="300528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7880" y="300528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ssign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3000" y="45291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wap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rządzanie prioryte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3716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362320"/>
            <a:ext cx="609480" cy="365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5146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200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38098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4495680"/>
            <a:ext cx="304920" cy="304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5720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648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0292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6386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5715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2920" y="19162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lass-spefic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61560" y="266688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al-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8600" y="38862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61920" y="510552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49040" y="1812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91680" y="1812960"/>
            <a:ext cx="88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2560" y="1905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960" y="1905120"/>
            <a:ext cx="87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lob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49360" y="2498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44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366"/>
                </a:solidFill>
                <a:latin typeface="Arial"/>
              </a:rPr>
              <a:t>L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080" y="25146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High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760" y="5791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c0066"/>
                </a:solidFill>
                <a:latin typeface="Arial"/>
              </a:rPr>
              <a:t>Lo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1-23T08:50:38Z</dcterms:modified>
  <cp:revision>51</cp:revision>
  <dc:subject/>
  <dc:title>Bez tytułu slajdu</dc:title>
</cp:coreProperties>
</file>