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64F-9E9A-4C19-864D-ABD39153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5DB-46DE-4A6E-A194-996E226C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F14-8315-45CD-9A37-9225A729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1C4-CD4A-4232-8488-61A3FBB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27E-5626-403F-9010-9296864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C86-4399-4014-BF7C-143B1B81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50B-2104-4038-9D95-2A0D0BD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E95-5AAE-4466-99D8-2C443904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9DB-D312-4033-A7F6-3BDF3EA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3BA-6456-4BC9-8B91-6BF9A24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932-4BAD-4DD2-B40A-DDDD9D0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8EB-0922-486A-A585-24DB6D4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AFB-5CB1-40C9-9872-96BE18DF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home\bokun\camera\vic.ba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Rozproszone Syste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putero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Środowiska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274" name="javalogo52x88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219320" y="2286000"/>
            <a:ext cx="1143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5053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143000" cy="761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3080" y="3962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B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39625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7680" y="3962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mni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0" y="2438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ix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7600" y="2438280"/>
            <a:ext cx="115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3582360" y="510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bject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4240" y="556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racle  Infor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90960" y="5145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m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wery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42900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95288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3733920"/>
            <a:ext cx="1752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ykładowe projekty KI AGH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90720" y="3809880"/>
            <a:ext cx="1371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IT -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ng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CANO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oraclelogo" descr=""/>
          <p:cNvPicPr/>
          <p:nvPr/>
        </p:nvPicPr>
        <p:blipFill>
          <a:blip r:embed="rId8"/>
          <a:stretch/>
        </p:blipFill>
        <p:spPr>
          <a:xfrm>
            <a:off x="2895480" y="2057400"/>
            <a:ext cx="1505160" cy="257040"/>
          </a:xfrm>
          <a:prstGeom prst="rect">
            <a:avLst/>
          </a:prstGeom>
          <a:ln w="0">
            <a:noFill/>
          </a:ln>
        </p:spPr>
      </p:pic>
      <p:pic>
        <p:nvPicPr>
          <p:cNvPr id="298" name="orllogo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0640" y="3733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572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952880"/>
            <a:ext cx="13622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Tel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560" y="5562720"/>
            <a:ext cx="31021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CL,  HP,  INRIA, CC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36232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ystemy wraż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6280" y="38862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Kompon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yste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9400" y="5105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M w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09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4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15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9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3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7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3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680" y="259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jęcia podstaw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640" y="365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tektury i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1160" y="47242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y 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"/>
          <p:cNvCxnSpPr>
            <a:stCxn id="364" idx="4"/>
            <a:endCxn id="365" idx="3"/>
          </p:cNvCxnSpPr>
          <p:nvPr/>
        </p:nvCxnSpPr>
        <p:spPr>
          <a:xfrm flipH="1" rot="16200000">
            <a:off x="6933240" y="3162240"/>
            <a:ext cx="1982160" cy="610200"/>
          </a:xfrm>
          <a:prstGeom prst="curvedConnector5">
            <a:avLst>
              <a:gd name="adj1" fmla="val 47102"/>
              <a:gd name="adj2" fmla="val 68713"/>
              <a:gd name="adj3" fmla="val 47102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mat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162920" y="2819520"/>
            <a:ext cx="838080" cy="285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51460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209680"/>
            <a:ext cx="76320" cy="571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133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286000"/>
            <a:ext cx="15228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/>
          </p:cNvPr>
          <p:cNvSpPr/>
          <p:nvPr/>
        </p:nvSpPr>
        <p:spPr>
          <a:xfrm>
            <a:off x="1828800" y="3124080"/>
            <a:ext cx="533412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352680"/>
            <a:ext cx="156852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76720"/>
            <a:ext cx="914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514600"/>
            <a:ext cx="99072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59092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029200"/>
            <a:ext cx="99072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502920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layer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3505320"/>
            <a:ext cx="403848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172200" y="3429000"/>
            <a:ext cx="457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600520" y="4000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434340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">
            <a:off x="2057400" y="4266720"/>
            <a:ext cx="487692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9200" y="3505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6576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895480"/>
            <a:ext cx="228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3516800">
            <a:off x="7849080" y="3275640"/>
            <a:ext cx="414360" cy="4158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81880" y="3733920"/>
            <a:ext cx="1526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0480" y="37339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39000">
            <a:off x="8229240" y="3352320"/>
            <a:ext cx="6094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65" idx="3"/>
          </p:cNvCxnSpPr>
          <p:nvPr/>
        </p:nvCxnSpPr>
        <p:spPr>
          <a:xfrm flipH="1">
            <a:off x="8228880" y="3546360"/>
            <a:ext cx="608760" cy="912240"/>
          </a:xfrm>
          <a:prstGeom prst="curvedConnector5">
            <a:avLst>
              <a:gd name="adj1" fmla="val -38106"/>
              <a:gd name="adj2" fmla="val 49980"/>
              <a:gd name="adj3" fmla="val -38106"/>
            </a:avLst>
          </a:prstGeom>
          <a:ln w="38160">
            <a:solidFill>
              <a:srgbClr val="3333cc"/>
            </a:solidFill>
            <a:miter/>
          </a:ln>
        </p:spPr>
      </p:cxnSp>
      <p:pic>
        <p:nvPicPr>
          <p:cNvPr id="396" name="player" descr=""/>
          <p:cNvPicPr/>
          <p:nvPr/>
        </p:nvPicPr>
        <p:blipFill>
          <a:blip r:embed="rId7"/>
          <a:stretch/>
        </p:blipFill>
        <p:spPr>
          <a:xfrm flipH="1">
            <a:off x="1600200" y="3657600"/>
            <a:ext cx="457200" cy="35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3657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809880"/>
            <a:ext cx="152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3733920"/>
            <a:ext cx="76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73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600">
            <a:off x="2057400" y="4419360"/>
            <a:ext cx="4876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EG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olu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9" name="evolution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848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jęcie systemu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ozproszo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55800">
            <a:off x="3870000" y="4006800"/>
            <a:ext cx="2895480" cy="2286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716800">
            <a:off x="3200040" y="4114080"/>
            <a:ext cx="3657600" cy="22860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064800">
            <a:off x="6027480" y="3954240"/>
            <a:ext cx="1660680" cy="152640"/>
          </a:xfrm>
          <a:custGeom>
            <a:avLst/>
            <a:gdLst>
              <a:gd name="textAreaLeft" fmla="*/ 25920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733920"/>
            <a:ext cx="25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UNIKA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85800"/>
            <a:ext cx="6400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ozpro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83844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838440" cy="761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5562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362320"/>
            <a:ext cx="838080" cy="7617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3352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352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05520"/>
            <a:ext cx="15685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15685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981080"/>
            <a:ext cx="156816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096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5943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3280" y="2209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419720"/>
            <a:ext cx="1981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PROGRAMOWANI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152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proszony system 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696080" y="60948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08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029200"/>
            <a:ext cx="156852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8320" y="5867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657600"/>
            <a:ext cx="5333760" cy="990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E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3025800" y="2590560"/>
            <a:ext cx="2286720" cy="3505680"/>
          </a:xfrm>
          <a:prstGeom prst="curvedConnector5">
            <a:avLst>
              <a:gd name="adj1" fmla="val 55329"/>
              <a:gd name="adj2" fmla="val 49994"/>
              <a:gd name="adj3" fmla="val 55329"/>
            </a:avLst>
          </a:prstGeom>
          <a:ln w="5724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3733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4724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75acac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ECI KOMPUTEROW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75acac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4038480"/>
            <a:ext cx="847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KALN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876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EJSKI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5791320"/>
            <a:ext cx="933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LEGŁ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2057400" y="3962160"/>
            <a:ext cx="838800" cy="61020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040" y="3123360"/>
            <a:ext cx="762840" cy="68652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028840" y="5181480"/>
            <a:ext cx="762840" cy="6105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5028840" y="4190760"/>
            <a:ext cx="762840" cy="5241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5105160" y="4952520"/>
            <a:ext cx="533880" cy="108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rot="2386800">
            <a:off x="7259760" y="4952520"/>
            <a:ext cx="1884240" cy="190512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5638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3640" y="533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848720" y="609480"/>
            <a:ext cx="923760" cy="92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3152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przę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259092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OBY OBLICZENIOW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3960" y="55627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jęci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3880" y="2895480"/>
            <a:ext cx="129564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327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9718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36306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640" y="44956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720" y="449568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352680"/>
            <a:ext cx="761760" cy="228600"/>
          </a:xfrm>
          <a:prstGeom prst="leftRightArrow">
            <a:avLst>
              <a:gd name="adj1" fmla="val 50000"/>
              <a:gd name="adj2" fmla="val 6633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359892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41800"/>
            <a:ext cx="457200" cy="95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04164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3688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04812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42900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90920"/>
            <a:ext cx="129528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0-05T08:04:42Z</dcterms:modified>
  <cp:revision>35</cp:revision>
  <dc:subject/>
  <dc:title>Bez tytułu slajdu</dc:title>
</cp:coreProperties>
</file>